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396800" y="0"/>
            <a:ext cx="10210680" cy="102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7300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1" marL="12906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2" marL="17085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3" marL="212616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4" marL="2544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5" marL="2544120" indent="-53712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6" marL="2544120" indent="-53712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7300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1" marL="12906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2" marL="17085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3" marL="212616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4" marL="2544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5" marL="2544120" indent="-53712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6" marL="2544120" indent="-53712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7300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1" marL="12906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2" marL="17085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3" marL="212616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4" marL="2544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5" marL="2544120" indent="-53712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  <a:p>
            <a:pPr lvl="6" marL="2544120" indent="-53712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1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3.png"/><Relationship Id="rId11" Type="http://schemas.openxmlformats.org/officeDocument/2006/relationships/image" Target="../media/image27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28.png"/><Relationship Id="rId15" Type="http://schemas.openxmlformats.org/officeDocument/2006/relationships/image" Target="../media/image27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49.png"/><Relationship Id="rId4" Type="http://schemas.openxmlformats.org/officeDocument/2006/relationships/image" Target="../media/image61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1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3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3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3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slideLayout" Target="../slideLayouts/slideLayout3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5.png"/><Relationship Id="rId3" Type="http://schemas.openxmlformats.org/officeDocument/2006/relationships/image" Target="../media/image83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3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3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3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slideLayout" Target="../slideLayouts/slideLayout3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5.png"/><Relationship Id="rId3" Type="http://schemas.openxmlformats.org/officeDocument/2006/relationships/image" Target="../media/image83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3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3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3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3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3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3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3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5524560" y="8091360"/>
            <a:ext cx="1434960" cy="194796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2324160" y="7974000"/>
            <a:ext cx="2781360" cy="249084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7099200" y="7886880"/>
            <a:ext cx="2184480" cy="23493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75920" y="2285640"/>
            <a:ext cx="12052440" cy="181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2e38a8"/>
                </a:solidFill>
                <a:latin typeface="Gill Sans"/>
              </a:rPr>
              <a:t>Bayesian Phylogenetic Inference using Sequential Monte Carlo Algorithms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6585120" y="682560"/>
            <a:ext cx="3862080" cy="425448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5"/>
          <a:stretch/>
        </p:blipFill>
        <p:spPr>
          <a:xfrm>
            <a:off x="3117960" y="314280"/>
            <a:ext cx="3862440" cy="42544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127080" y="1574640"/>
            <a:ext cx="12725280" cy="635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-241200" y="3759120"/>
            <a:ext cx="1347444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Alexandre Bouchard-Côté</a:t>
            </a:r>
            <a:r>
              <a:rPr b="0" lang="en-US" sz="4400" spc="-1" strike="noStrike" baseline="32000">
                <a:solidFill>
                  <a:srgbClr val="000000"/>
                </a:solidFill>
                <a:latin typeface="Gill Sans"/>
                <a:ea typeface="Gill Sans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Gill Sans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Gill Sans"/>
              </a:rPr>
              <a:t>Collaborators: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Gill Sans"/>
              </a:rPr>
              <a:t>Liangliang Wang</a:t>
            </a:r>
            <a:r>
              <a:rPr b="0" lang="en-US" sz="3500" spc="-1" strike="noStrike" baseline="32000">
                <a:solidFill>
                  <a:srgbClr val="000000"/>
                </a:solidFill>
                <a:latin typeface="Gill Sans"/>
                <a:ea typeface="Gill Sans"/>
              </a:rPr>
              <a:t>*, </a:t>
            </a: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Gill Sans"/>
              </a:rPr>
              <a:t> Arnaud Doucet</a:t>
            </a:r>
            <a:r>
              <a:rPr b="0" lang="en-US" sz="3500" spc="-1" strike="noStrike" baseline="32000">
                <a:solidFill>
                  <a:srgbClr val="000000"/>
                </a:solidFill>
                <a:latin typeface="Gill Sans"/>
                <a:ea typeface="Gill Sans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Gill Sans"/>
              </a:rPr>
              <a:t>, Michael I. Jordan</a:t>
            </a:r>
            <a:r>
              <a:rPr b="0" lang="en-US" sz="3100" spc="-1" strike="noStrike" baseline="32000">
                <a:solidFill>
                  <a:srgbClr val="000000"/>
                </a:solidFill>
                <a:latin typeface="Gill Sans"/>
                <a:ea typeface="Zapf Dingbats"/>
              </a:rPr>
              <a:t>✝</a:t>
            </a: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Gill Sans"/>
              </a:rPr>
              <a:t>, Sriram Sankararaman</a:t>
            </a:r>
            <a:r>
              <a:rPr b="0" lang="en-US" sz="3500" spc="-1" strike="noStrike" baseline="32000">
                <a:solidFill>
                  <a:srgbClr val="000000"/>
                </a:solidFill>
                <a:latin typeface="Gill Sans"/>
                <a:ea typeface="Gill Sans"/>
              </a:rPr>
              <a:t>**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2000">
                <a:solidFill>
                  <a:srgbClr val="000000"/>
                </a:solidFill>
                <a:latin typeface="Gill Sans"/>
                <a:ea typeface="Gill San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 Department of Statistics, University of British Columb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2000">
                <a:solidFill>
                  <a:srgbClr val="000000"/>
                </a:solidFill>
                <a:latin typeface="Gill Sans"/>
                <a:ea typeface="Zapf Dingbats"/>
              </a:rPr>
              <a:t>✝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cience Division, University of California Berkel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2000">
                <a:solidFill>
                  <a:srgbClr val="000000"/>
                </a:solidFill>
                <a:latin typeface="Gill Sans"/>
                <a:ea typeface="Gill Sans"/>
              </a:rPr>
              <a:t>**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 Department of Genetics, Harvard Univers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476280" y="1523880"/>
            <a:ext cx="120524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2e38a8"/>
                </a:solidFill>
                <a:latin typeface="Gill Sans"/>
                <a:ea typeface="Gill Sans"/>
              </a:rPr>
              <a:t>Variational and Sequential Inference over Combinatorial Spaces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6"/>
          <a:stretch/>
        </p:blipFill>
        <p:spPr>
          <a:xfrm>
            <a:off x="12903120" y="7977240"/>
            <a:ext cx="1435320" cy="19479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7"/>
          <a:stretch/>
        </p:blipFill>
        <p:spPr>
          <a:xfrm>
            <a:off x="9702720" y="7859880"/>
            <a:ext cx="2781360" cy="249048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8"/>
          <a:stretch/>
        </p:blipFill>
        <p:spPr>
          <a:xfrm>
            <a:off x="14478120" y="7772400"/>
            <a:ext cx="2184120" cy="23493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9"/>
          <a:stretch/>
        </p:blipFill>
        <p:spPr>
          <a:xfrm>
            <a:off x="-1689120" y="7977240"/>
            <a:ext cx="1434960" cy="19479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10"/>
          <a:stretch/>
        </p:blipFill>
        <p:spPr>
          <a:xfrm>
            <a:off x="-114480" y="7772400"/>
            <a:ext cx="218448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779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78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06080" y="-200160"/>
            <a:ext cx="12192120" cy="22082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Variational inference over combinatorial spaces: a user’s guide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85920" y="2355840"/>
            <a:ext cx="1346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Goal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"/>
          <p:cNvSpPr/>
          <p:nvPr/>
        </p:nvSpPr>
        <p:spPr>
          <a:xfrm>
            <a:off x="649440" y="4273560"/>
            <a:ext cx="30733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ssumption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Italic"/>
                <a:ea typeface="Arial Narrow Italic"/>
              </a:rPr>
              <a:t>(‘Measure factorization’)</a:t>
            </a: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"/>
          <p:cNvSpPr/>
          <p:nvPr/>
        </p:nvSpPr>
        <p:spPr>
          <a:xfrm>
            <a:off x="9880560" y="2286000"/>
            <a:ext cx="2718000" cy="3276720"/>
          </a:xfrm>
          <a:prstGeom prst="rect">
            <a:avLst/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3975120" y="2502000"/>
            <a:ext cx="2819520" cy="114300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2"/>
          <a:stretch/>
        </p:blipFill>
        <p:spPr>
          <a:xfrm>
            <a:off x="3784680" y="5359320"/>
            <a:ext cx="3098880" cy="116856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3"/>
          <a:stretch/>
        </p:blipFill>
        <p:spPr>
          <a:xfrm>
            <a:off x="4013280" y="4368960"/>
            <a:ext cx="2070000" cy="73656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3517920" y="2260440"/>
            <a:ext cx="5778360" cy="1536840"/>
          </a:xfrm>
          <a:prstGeom prst="rect">
            <a:avLst/>
          </a:prstGeom>
          <a:noFill/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"/>
          <p:cNvSpPr/>
          <p:nvPr/>
        </p:nvSpPr>
        <p:spPr>
          <a:xfrm>
            <a:off x="3517920" y="4286160"/>
            <a:ext cx="5778360" cy="2349720"/>
          </a:xfrm>
          <a:prstGeom prst="rect">
            <a:avLst/>
          </a:prstGeom>
          <a:noFill/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"/>
          <p:cNvSpPr/>
          <p:nvPr/>
        </p:nvSpPr>
        <p:spPr>
          <a:xfrm>
            <a:off x="7240680" y="4470480"/>
            <a:ext cx="2463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ch that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4"/>
          <a:stretch/>
        </p:blipFill>
        <p:spPr>
          <a:xfrm>
            <a:off x="10464840" y="2500200"/>
            <a:ext cx="1447920" cy="28339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0050480" y="2289600"/>
            <a:ext cx="43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ba17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3900" spc="-1" strike="noStrike" baseline="-6000">
                <a:solidFill>
                  <a:srgbClr val="0bba17"/>
                </a:solidFill>
                <a:latin typeface="Times New Roman"/>
                <a:ea typeface="Times New Roman"/>
              </a:rPr>
              <a:t>1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"/>
          <p:cNvSpPr/>
          <p:nvPr/>
        </p:nvSpPr>
        <p:spPr>
          <a:xfrm>
            <a:off x="10050480" y="4842360"/>
            <a:ext cx="43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ba17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3900" spc="-1" strike="noStrike" baseline="-6000">
                <a:solidFill>
                  <a:srgbClr val="0bba17"/>
                </a:solidFill>
                <a:latin typeface="Times New Roman"/>
                <a:ea typeface="Times New Roman"/>
              </a:rPr>
              <a:t>2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"/>
          <p:cNvSpPr/>
          <p:nvPr/>
        </p:nvSpPr>
        <p:spPr>
          <a:xfrm>
            <a:off x="12167280" y="3597840"/>
            <a:ext cx="293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 Italic"/>
                <a:ea typeface="Times New Roman Italic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10477440" y="2692440"/>
            <a:ext cx="609840" cy="355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10515600" y="4808520"/>
            <a:ext cx="571680" cy="309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"/>
          <p:cNvSpPr/>
          <p:nvPr/>
        </p:nvSpPr>
        <p:spPr>
          <a:xfrm>
            <a:off x="11526840" y="3825720"/>
            <a:ext cx="609480" cy="119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"/>
          <p:cNvSpPr/>
          <p:nvPr/>
        </p:nvSpPr>
        <p:spPr>
          <a:xfrm>
            <a:off x="7240680" y="2552760"/>
            <a:ext cx="2463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 Narrow"/>
                <a:ea typeface="Arial Narrow"/>
              </a:rPr>
              <a:t>(intractable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5384880"/>
            <a:ext cx="1892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bba17"/>
                </a:solidFill>
                <a:latin typeface="Arial Narrow"/>
                <a:ea typeface="Arial Narrow"/>
              </a:rPr>
              <a:t>is tractabl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"/>
          <p:cNvSpPr/>
          <p:nvPr/>
        </p:nvSpPr>
        <p:spPr>
          <a:xfrm>
            <a:off x="306360" y="6940440"/>
            <a:ext cx="115952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nsequence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f you can find such decomposition, our framework gives a way to turn variational algorithms defined for graphical models into algorithms that can be used for combinatorial spa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805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80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Advantage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00200" y="2362320"/>
            <a:ext cx="1159488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Termination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st variational algorithms are guaranteed to converge in a finite number of steps (very small in practic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Bounds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using a specific variational algorithm, we can guarantee that the estimated value for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Z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is an upper b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Empirically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good accuracy on a range of probl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813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816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560" y="1080"/>
            <a:ext cx="1239516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e38a8"/>
                </a:solidFill>
                <a:latin typeface="Arial"/>
              </a:rPr>
              <a:t>Examples of tractable measure factorizations</a:t>
            </a:r>
            <a:endParaRPr b="0" lang="en-US" sz="47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8877240" y="2914560"/>
            <a:ext cx="3543480" cy="4711680"/>
          </a:xfrm>
          <a:prstGeom prst="rect">
            <a:avLst/>
          </a:prstGeom>
          <a:solidFill>
            <a:srgbClr val="f9f9f9"/>
          </a:solidFill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"/>
          <p:cNvSpPr/>
          <p:nvPr/>
        </p:nvSpPr>
        <p:spPr>
          <a:xfrm>
            <a:off x="285840" y="3892680"/>
            <a:ext cx="3886200" cy="3149640"/>
          </a:xfrm>
          <a:prstGeom prst="rect">
            <a:avLst/>
          </a:prstGeom>
          <a:solidFill>
            <a:srgbClr val="f9f9f9"/>
          </a:solidFill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"/>
          <p:cNvSpPr/>
          <p:nvPr/>
        </p:nvSpPr>
        <p:spPr>
          <a:xfrm>
            <a:off x="4483080" y="3898800"/>
            <a:ext cx="2679840" cy="3276720"/>
          </a:xfrm>
          <a:prstGeom prst="rect">
            <a:avLst/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5130720" y="4125960"/>
            <a:ext cx="1447920" cy="2833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3366360" y="5147280"/>
            <a:ext cx="293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 Italic"/>
                <a:ea typeface="Times New Roman Italic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6145920" y="4308480"/>
            <a:ext cx="3048120" cy="27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"/>
          <p:cNvSpPr/>
          <p:nvPr/>
        </p:nvSpPr>
        <p:spPr>
          <a:xfrm>
            <a:off x="6027840" y="6324480"/>
            <a:ext cx="3182760" cy="4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3774600" y="5443560"/>
            <a:ext cx="1863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"/>
          <p:cNvSpPr/>
          <p:nvPr/>
        </p:nvSpPr>
        <p:spPr>
          <a:xfrm>
            <a:off x="9326520" y="3927960"/>
            <a:ext cx="43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ba17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3900" spc="-1" strike="noStrike" baseline="-6000">
                <a:solidFill>
                  <a:srgbClr val="0bba17"/>
                </a:solidFill>
                <a:latin typeface="Times New Roman"/>
                <a:ea typeface="Times New Roman"/>
              </a:rPr>
              <a:t>1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"/>
          <p:cNvSpPr/>
          <p:nvPr/>
        </p:nvSpPr>
        <p:spPr>
          <a:xfrm>
            <a:off x="9326520" y="6036120"/>
            <a:ext cx="43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ba17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3900" spc="-1" strike="noStrike" baseline="-6000">
                <a:solidFill>
                  <a:srgbClr val="0bba17"/>
                </a:solidFill>
                <a:latin typeface="Times New Roman"/>
                <a:ea typeface="Times New Roman"/>
              </a:rPr>
              <a:t>2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1309680" y="4737240"/>
            <a:ext cx="1739880" cy="171432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88200" y="3991320"/>
            <a:ext cx="428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Perfect match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"/>
          <p:cNvSpPr/>
          <p:nvPr/>
        </p:nvSpPr>
        <p:spPr>
          <a:xfrm>
            <a:off x="1436400" y="6391800"/>
            <a:ext cx="34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2" name=""/>
          <p:cNvSpPr/>
          <p:nvPr/>
        </p:nvSpPr>
        <p:spPr>
          <a:xfrm>
            <a:off x="2551680" y="6404400"/>
            <a:ext cx="34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3" name=""/>
          <p:cNvSpPr/>
          <p:nvPr/>
        </p:nvSpPr>
        <p:spPr>
          <a:xfrm>
            <a:off x="1828800" y="6730920"/>
            <a:ext cx="711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"/>
          <p:cNvSpPr/>
          <p:nvPr/>
        </p:nvSpPr>
        <p:spPr>
          <a:xfrm>
            <a:off x="9953280" y="4992480"/>
            <a:ext cx="2764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5" name=""/>
          <p:cNvSpPr/>
          <p:nvPr/>
        </p:nvSpPr>
        <p:spPr>
          <a:xfrm>
            <a:off x="11068560" y="5005080"/>
            <a:ext cx="2811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"/>
          <p:cNvSpPr/>
          <p:nvPr/>
        </p:nvSpPr>
        <p:spPr>
          <a:xfrm>
            <a:off x="9953280" y="7036920"/>
            <a:ext cx="2764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7" name=""/>
          <p:cNvSpPr/>
          <p:nvPr/>
        </p:nvSpPr>
        <p:spPr>
          <a:xfrm>
            <a:off x="11068560" y="7049880"/>
            <a:ext cx="2811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0411920" y="7323120"/>
            <a:ext cx="560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"/>
          <p:cNvSpPr/>
          <p:nvPr/>
        </p:nvSpPr>
        <p:spPr>
          <a:xfrm>
            <a:off x="10375920" y="5265720"/>
            <a:ext cx="528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"/>
          <p:cNvSpPr/>
          <p:nvPr/>
        </p:nvSpPr>
        <p:spPr>
          <a:xfrm>
            <a:off x="9869040" y="2934720"/>
            <a:ext cx="1535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unction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9893160" y="3502080"/>
            <a:ext cx="1562400" cy="153828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4"/>
          <a:stretch/>
        </p:blipFill>
        <p:spPr>
          <a:xfrm>
            <a:off x="9880560" y="5562720"/>
            <a:ext cx="1562040" cy="15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844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847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560" y="1080"/>
            <a:ext cx="1239516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e38a8"/>
                </a:solidFill>
                <a:latin typeface="Arial"/>
              </a:rPr>
              <a:t>Examples of tractable measure factorizations</a:t>
            </a:r>
            <a:endParaRPr b="0" lang="en-US" sz="47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1143000" y="2844720"/>
            <a:ext cx="10718640" cy="52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6858000" y="3530520"/>
            <a:ext cx="7899480" cy="2489400"/>
          </a:xfrm>
          <a:prstGeom prst="rect">
            <a:avLst/>
          </a:prstGeom>
          <a:noFill/>
          <a:ln w="38160">
            <a:solidFill>
              <a:srgbClr val="699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853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856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560" y="1080"/>
            <a:ext cx="1239516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e38a8"/>
                </a:solidFill>
                <a:latin typeface="Arial"/>
              </a:rPr>
              <a:t>Examples of tractable measure factorizations</a:t>
            </a:r>
            <a:endParaRPr b="0" lang="en-US" sz="47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71880" y="2235240"/>
            <a:ext cx="1225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More advanced example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nearizations of partial ord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888840" y="3187800"/>
            <a:ext cx="4673880" cy="637704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2549520" y="3181320"/>
            <a:ext cx="1496880" cy="120636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62" name="" descr=""/>
          <p:cNvPicPr/>
          <p:nvPr/>
        </p:nvPicPr>
        <p:blipFill>
          <a:blip r:embed="rId3"/>
          <a:stretch/>
        </p:blipFill>
        <p:spPr>
          <a:xfrm>
            <a:off x="673200" y="4622760"/>
            <a:ext cx="1498680" cy="159228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63" name="" descr=""/>
          <p:cNvPicPr/>
          <p:nvPr/>
        </p:nvPicPr>
        <p:blipFill>
          <a:blip r:embed="rId4"/>
          <a:stretch/>
        </p:blipFill>
        <p:spPr>
          <a:xfrm>
            <a:off x="4457880" y="4494240"/>
            <a:ext cx="1168200" cy="184320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64" name="" descr=""/>
          <p:cNvPicPr/>
          <p:nvPr/>
        </p:nvPicPr>
        <p:blipFill>
          <a:blip r:embed="rId5"/>
          <a:stretch/>
        </p:blipFill>
        <p:spPr>
          <a:xfrm>
            <a:off x="685800" y="8240760"/>
            <a:ext cx="1460520" cy="132228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65" name="" descr=""/>
          <p:cNvPicPr/>
          <p:nvPr/>
        </p:nvPicPr>
        <p:blipFill>
          <a:blip r:embed="rId6"/>
          <a:stretch/>
        </p:blipFill>
        <p:spPr>
          <a:xfrm>
            <a:off x="2692440" y="4646520"/>
            <a:ext cx="1206360" cy="155124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66" name="" descr=""/>
          <p:cNvPicPr/>
          <p:nvPr/>
        </p:nvPicPr>
        <p:blipFill>
          <a:blip r:embed="rId7"/>
          <a:stretch/>
        </p:blipFill>
        <p:spPr>
          <a:xfrm>
            <a:off x="2603520" y="8178840"/>
            <a:ext cx="1384200" cy="143496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67" name="" descr=""/>
          <p:cNvPicPr/>
          <p:nvPr/>
        </p:nvPicPr>
        <p:blipFill>
          <a:blip r:embed="rId8"/>
          <a:stretch/>
        </p:blipFill>
        <p:spPr>
          <a:xfrm>
            <a:off x="301680" y="6553080"/>
            <a:ext cx="1996920" cy="120672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68" name="" descr=""/>
          <p:cNvPicPr/>
          <p:nvPr/>
        </p:nvPicPr>
        <p:blipFill>
          <a:blip r:embed="rId9"/>
          <a:stretch/>
        </p:blipFill>
        <p:spPr>
          <a:xfrm>
            <a:off x="2743200" y="6451560"/>
            <a:ext cx="1122480" cy="142236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sp>
        <p:nvSpPr>
          <p:cNvPr id="869" name=""/>
          <p:cNvSpPr/>
          <p:nvPr/>
        </p:nvSpPr>
        <p:spPr>
          <a:xfrm>
            <a:off x="5689440" y="5562720"/>
            <a:ext cx="1270080" cy="1269720"/>
          </a:xfrm>
          <a:prstGeom prst="rightArrow">
            <a:avLst>
              <a:gd name="adj1" fmla="val 32000"/>
              <a:gd name="adj2" fmla="val 44012"/>
            </a:avLst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0"/>
          <a:stretch/>
        </p:blipFill>
        <p:spPr>
          <a:xfrm>
            <a:off x="7439040" y="4267080"/>
            <a:ext cx="1996920" cy="120672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71" name="" descr=""/>
          <p:cNvPicPr/>
          <p:nvPr/>
        </p:nvPicPr>
        <p:blipFill>
          <a:blip r:embed="rId11"/>
          <a:stretch/>
        </p:blipFill>
        <p:spPr>
          <a:xfrm>
            <a:off x="9674280" y="4260960"/>
            <a:ext cx="1496880" cy="120636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72" name="" descr=""/>
          <p:cNvPicPr/>
          <p:nvPr/>
        </p:nvPicPr>
        <p:blipFill>
          <a:blip r:embed="rId12"/>
          <a:stretch/>
        </p:blipFill>
        <p:spPr>
          <a:xfrm>
            <a:off x="11417400" y="3948120"/>
            <a:ext cx="1168200" cy="184320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73" name="" descr=""/>
          <p:cNvPicPr/>
          <p:nvPr/>
        </p:nvPicPr>
        <p:blipFill>
          <a:blip r:embed="rId13"/>
          <a:stretch/>
        </p:blipFill>
        <p:spPr>
          <a:xfrm>
            <a:off x="12827160" y="4214880"/>
            <a:ext cx="1460520" cy="132228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sp>
        <p:nvSpPr>
          <p:cNvPr id="874" name=""/>
          <p:cNvSpPr/>
          <p:nvPr/>
        </p:nvSpPr>
        <p:spPr>
          <a:xfrm>
            <a:off x="6858000" y="6553080"/>
            <a:ext cx="7899480" cy="24894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4"/>
          <a:stretch/>
        </p:blipFill>
        <p:spPr>
          <a:xfrm>
            <a:off x="7429680" y="7010280"/>
            <a:ext cx="1498320" cy="159228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76" name="" descr=""/>
          <p:cNvPicPr/>
          <p:nvPr/>
        </p:nvPicPr>
        <p:blipFill>
          <a:blip r:embed="rId15"/>
          <a:stretch/>
        </p:blipFill>
        <p:spPr>
          <a:xfrm>
            <a:off x="9381960" y="7194600"/>
            <a:ext cx="1497240" cy="120636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  <p:pic>
        <p:nvPicPr>
          <p:cNvPr id="877" name="" descr=""/>
          <p:cNvPicPr/>
          <p:nvPr/>
        </p:nvPicPr>
        <p:blipFill>
          <a:blip r:embed="rId16"/>
          <a:stretch/>
        </p:blipFill>
        <p:spPr>
          <a:xfrm>
            <a:off x="11223720" y="7201080"/>
            <a:ext cx="1996920" cy="1206360"/>
          </a:xfrm>
          <a:prstGeom prst="rect">
            <a:avLst/>
          </a:prstGeom>
          <a:ln w="25560">
            <a:solidFill>
              <a:srgbClr val="000000"/>
            </a:solidFill>
            <a:round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879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88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4560" y="1080"/>
            <a:ext cx="1239516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e38a8"/>
                </a:solidFill>
                <a:latin typeface="Arial"/>
              </a:rPr>
              <a:t>Examples of tractable measure factorizations</a:t>
            </a:r>
            <a:endParaRPr b="0" lang="en-US" sz="47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71880" y="2311560"/>
            <a:ext cx="1225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More advanced example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nearizations of partial ord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4737240" y="3606840"/>
            <a:ext cx="3530520" cy="481644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8880840" y="8610480"/>
            <a:ext cx="3223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‘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Hasse diagram’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889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89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560" y="1080"/>
            <a:ext cx="1239516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e38a8"/>
                </a:solidFill>
                <a:latin typeface="Arial"/>
              </a:rPr>
              <a:t>Examples of tractable measure factorizations</a:t>
            </a:r>
            <a:endParaRPr b="0" lang="en-US" sz="47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71880" y="2311560"/>
            <a:ext cx="1225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More advanced example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nearizations of partial ord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"/>
          <p:cNvSpPr/>
          <p:nvPr/>
        </p:nvSpPr>
        <p:spPr>
          <a:xfrm>
            <a:off x="450720" y="3981600"/>
            <a:ext cx="3886200" cy="4267080"/>
          </a:xfrm>
          <a:prstGeom prst="rect">
            <a:avLst/>
          </a:prstGeom>
          <a:solidFill>
            <a:srgbClr val="f9f9f9"/>
          </a:solidFill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7" name=""/>
          <p:cNvSpPr/>
          <p:nvPr/>
        </p:nvSpPr>
        <p:spPr>
          <a:xfrm>
            <a:off x="7696080" y="4641840"/>
            <a:ext cx="4851360" cy="4165560"/>
          </a:xfrm>
          <a:prstGeom prst="rect">
            <a:avLst/>
          </a:prstGeom>
          <a:solidFill>
            <a:srgbClr val="f9f9f9"/>
          </a:solidFill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8" name=""/>
          <p:cNvSpPr/>
          <p:nvPr/>
        </p:nvSpPr>
        <p:spPr>
          <a:xfrm>
            <a:off x="7790400" y="4789080"/>
            <a:ext cx="24926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Forest cov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78040" y="5691240"/>
            <a:ext cx="1434960" cy="194796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4902120" y="4533840"/>
            <a:ext cx="2175120" cy="283212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3"/>
          <a:stretch/>
        </p:blipFill>
        <p:spPr>
          <a:xfrm>
            <a:off x="10998360" y="4923000"/>
            <a:ext cx="1276200" cy="173196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4"/>
          <a:stretch/>
        </p:blipFill>
        <p:spPr>
          <a:xfrm>
            <a:off x="8591400" y="6878520"/>
            <a:ext cx="1276560" cy="173196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5"/>
          <a:stretch/>
        </p:blipFill>
        <p:spPr>
          <a:xfrm>
            <a:off x="10998360" y="6877080"/>
            <a:ext cx="1276200" cy="173340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10177560" y="5464800"/>
            <a:ext cx="43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ba17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3900" spc="-1" strike="noStrike" baseline="-6000">
                <a:solidFill>
                  <a:srgbClr val="0bba17"/>
                </a:solidFill>
                <a:latin typeface="Times New Roman"/>
                <a:ea typeface="Times New Roman"/>
              </a:rPr>
              <a:t>3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"/>
          <p:cNvSpPr/>
          <p:nvPr/>
        </p:nvSpPr>
        <p:spPr>
          <a:xfrm>
            <a:off x="10177560" y="6518880"/>
            <a:ext cx="43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ba17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3900" spc="-1" strike="noStrike" baseline="-6000">
                <a:solidFill>
                  <a:srgbClr val="0bba17"/>
                </a:solidFill>
                <a:latin typeface="Times New Roman"/>
                <a:ea typeface="Times New Roman"/>
              </a:rPr>
              <a:t>2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6" name=""/>
          <p:cNvSpPr/>
          <p:nvPr/>
        </p:nvSpPr>
        <p:spPr>
          <a:xfrm>
            <a:off x="8031240" y="6671160"/>
            <a:ext cx="43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ba17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3900" spc="-1" strike="noStrike" baseline="-6000">
                <a:solidFill>
                  <a:srgbClr val="0bba17"/>
                </a:solidFill>
                <a:latin typeface="Times New Roman"/>
                <a:ea typeface="Times New Roman"/>
              </a:rPr>
              <a:t>1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7" name=""/>
          <p:cNvSpPr/>
          <p:nvPr/>
        </p:nvSpPr>
        <p:spPr>
          <a:xfrm>
            <a:off x="4648320" y="4305240"/>
            <a:ext cx="2679480" cy="3276720"/>
          </a:xfrm>
          <a:prstGeom prst="rect">
            <a:avLst/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"/>
          <p:cNvSpPr/>
          <p:nvPr/>
        </p:nvSpPr>
        <p:spPr>
          <a:xfrm>
            <a:off x="5557680" y="5049720"/>
            <a:ext cx="4402440" cy="744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9" name=""/>
          <p:cNvSpPr/>
          <p:nvPr/>
        </p:nvSpPr>
        <p:spPr>
          <a:xfrm>
            <a:off x="6556320" y="5862600"/>
            <a:ext cx="3581280" cy="897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"/>
          <p:cNvSpPr/>
          <p:nvPr/>
        </p:nvSpPr>
        <p:spPr>
          <a:xfrm>
            <a:off x="5303880" y="6845400"/>
            <a:ext cx="2557440" cy="135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"/>
          <p:cNvSpPr/>
          <p:nvPr/>
        </p:nvSpPr>
        <p:spPr>
          <a:xfrm>
            <a:off x="879120" y="4090320"/>
            <a:ext cx="32346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Lineariza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of Pos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"/>
          <p:cNvSpPr/>
          <p:nvPr/>
        </p:nvSpPr>
        <p:spPr>
          <a:xfrm>
            <a:off x="3594960" y="6074280"/>
            <a:ext cx="293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 Italic"/>
                <a:ea typeface="Times New Roman Italic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003560" y="6048360"/>
            <a:ext cx="1790640" cy="322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915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91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4560" y="1080"/>
            <a:ext cx="1239516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e38a8"/>
                </a:solidFill>
                <a:latin typeface="Arial"/>
              </a:rPr>
              <a:t>Examples of tractable measure factorizations</a:t>
            </a:r>
            <a:endParaRPr b="0" lang="en-US" sz="47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1880" y="2463840"/>
            <a:ext cx="1225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More advanced example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nearizations of partial ord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914400" y="3759120"/>
            <a:ext cx="11163240" cy="38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924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927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36560" y="1080"/>
            <a:ext cx="1153152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Under the hood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1447920" y="4076640"/>
            <a:ext cx="10109160" cy="161280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2347920" y="5626080"/>
            <a:ext cx="8335800" cy="155880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050440" y="2870280"/>
            <a:ext cx="3468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fficient statisti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3" name=""/>
          <p:cNvSpPr/>
          <p:nvPr/>
        </p:nvSpPr>
        <p:spPr>
          <a:xfrm>
            <a:off x="9811080" y="2540160"/>
            <a:ext cx="2126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aram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4" name=""/>
          <p:cNvSpPr/>
          <p:nvPr/>
        </p:nvSpPr>
        <p:spPr>
          <a:xfrm>
            <a:off x="136440" y="7873920"/>
            <a:ext cx="4152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g partition func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"/>
          <p:cNvSpPr/>
          <p:nvPr/>
        </p:nvSpPr>
        <p:spPr>
          <a:xfrm>
            <a:off x="5965920" y="7709040"/>
            <a:ext cx="67564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base measure is an indicator over the combinatorial space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C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of interes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6832080" y="3809520"/>
            <a:ext cx="101880" cy="6606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9829800" y="3352320"/>
            <a:ext cx="760320" cy="11178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3"/>
          <a:stretch/>
        </p:blipFill>
        <p:spPr>
          <a:xfrm>
            <a:off x="2644920" y="4800600"/>
            <a:ext cx="217440" cy="25416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 flipH="1">
            <a:off x="2387160" y="6680160"/>
            <a:ext cx="406440" cy="12193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0" name=""/>
          <p:cNvSpPr/>
          <p:nvPr/>
        </p:nvSpPr>
        <p:spPr>
          <a:xfrm>
            <a:off x="9601200" y="6692760"/>
            <a:ext cx="1143000" cy="1105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1" name=""/>
          <p:cNvSpPr/>
          <p:nvPr/>
        </p:nvSpPr>
        <p:spPr>
          <a:xfrm>
            <a:off x="-473400" y="2044800"/>
            <a:ext cx="924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Background on exponential families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6721560" y="4406760"/>
            <a:ext cx="378360" cy="640440"/>
            <a:chOff x="6721560" y="4406760"/>
            <a:chExt cx="378360" cy="640440"/>
          </a:xfrm>
        </p:grpSpPr>
        <p:sp>
          <p:nvSpPr>
            <p:cNvPr id="943" name=""/>
            <p:cNvSpPr/>
            <p:nvPr/>
          </p:nvSpPr>
          <p:spPr>
            <a:xfrm>
              <a:off x="6729120" y="4495680"/>
              <a:ext cx="35676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721560" y="4406760"/>
              <a:ext cx="378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T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7204320" y="5956200"/>
            <a:ext cx="378360" cy="640440"/>
            <a:chOff x="7204320" y="5956200"/>
            <a:chExt cx="378360" cy="640440"/>
          </a:xfrm>
        </p:grpSpPr>
        <p:sp>
          <p:nvSpPr>
            <p:cNvPr id="946" name=""/>
            <p:cNvSpPr/>
            <p:nvPr/>
          </p:nvSpPr>
          <p:spPr>
            <a:xfrm>
              <a:off x="7211880" y="6045120"/>
              <a:ext cx="35676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04320" y="5956200"/>
              <a:ext cx="378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T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949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95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52280" y="-123840"/>
            <a:ext cx="12700080" cy="22082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38a8"/>
                </a:solidFill>
                <a:latin typeface="Arial"/>
              </a:rPr>
              <a:t>What do the sufficient statistic look like in the combinatorial spaces we have seen?</a:t>
            </a:r>
            <a:endParaRPr b="0" lang="en-US" sz="48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01680" y="2222640"/>
            <a:ext cx="28573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Bipartite matching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6" name=""/>
          <p:cNvSpPr/>
          <p:nvPr/>
        </p:nvSpPr>
        <p:spPr>
          <a:xfrm>
            <a:off x="4055040" y="4521240"/>
            <a:ext cx="159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 =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5702400" y="2438280"/>
            <a:ext cx="177840" cy="5816520"/>
            <a:chOff x="5702400" y="2438280"/>
            <a:chExt cx="177840" cy="5816520"/>
          </a:xfrm>
        </p:grpSpPr>
        <p:sp>
          <p:nvSpPr>
            <p:cNvPr id="958" name=""/>
            <p:cNvSpPr/>
            <p:nvPr/>
          </p:nvSpPr>
          <p:spPr>
            <a:xfrm flipH="1">
              <a:off x="5713560" y="2438280"/>
              <a:ext cx="1440" cy="5816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02400" y="2438280"/>
              <a:ext cx="177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02400" y="8235720"/>
              <a:ext cx="177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9817200" y="2425320"/>
            <a:ext cx="177840" cy="5816880"/>
            <a:chOff x="9817200" y="2425320"/>
            <a:chExt cx="177840" cy="5816880"/>
          </a:xfrm>
        </p:grpSpPr>
        <p:sp>
          <p:nvSpPr>
            <p:cNvPr id="962" name=""/>
            <p:cNvSpPr/>
            <p:nvPr/>
          </p:nvSpPr>
          <p:spPr>
            <a:xfrm flipV="1">
              <a:off x="9980640" y="2425320"/>
              <a:ext cx="0" cy="5816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9817200" y="8242200"/>
              <a:ext cx="177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9817200" y="2443320"/>
              <a:ext cx="177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6188760" y="2235240"/>
            <a:ext cx="3529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nked to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 b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6" name=""/>
          <p:cNvSpPr/>
          <p:nvPr/>
        </p:nvSpPr>
        <p:spPr>
          <a:xfrm rot="5400000">
            <a:off x="7878240" y="4555440"/>
            <a:ext cx="446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1599480" y="3428640"/>
            <a:ext cx="4343400" cy="19810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8" name=""/>
          <p:cNvSpPr/>
          <p:nvPr/>
        </p:nvSpPr>
        <p:spPr>
          <a:xfrm>
            <a:off x="12395160" y="2425680"/>
            <a:ext cx="0" cy="5845320"/>
          </a:xfrm>
          <a:prstGeom prst="line">
            <a:avLst/>
          </a:prstGeom>
          <a:ln w="255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9" name=""/>
          <p:cNvSpPr/>
          <p:nvPr/>
        </p:nvSpPr>
        <p:spPr>
          <a:xfrm>
            <a:off x="12614040" y="4991040"/>
            <a:ext cx="227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 Italic"/>
                <a:ea typeface="Times New Roman Italic"/>
              </a:rPr>
              <a:t>J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10401480" y="2438280"/>
            <a:ext cx="177480" cy="5816520"/>
            <a:chOff x="10401480" y="2438280"/>
            <a:chExt cx="177480" cy="5816520"/>
          </a:xfrm>
        </p:grpSpPr>
        <p:sp>
          <p:nvSpPr>
            <p:cNvPr id="971" name=""/>
            <p:cNvSpPr/>
            <p:nvPr/>
          </p:nvSpPr>
          <p:spPr>
            <a:xfrm flipH="1">
              <a:off x="10411920" y="2438280"/>
              <a:ext cx="1080" cy="5816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0401480" y="2438280"/>
              <a:ext cx="177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0401480" y="8235720"/>
              <a:ext cx="177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2001320" y="2425320"/>
            <a:ext cx="177480" cy="5816880"/>
            <a:chOff x="12001320" y="2425320"/>
            <a:chExt cx="177480" cy="5816880"/>
          </a:xfrm>
        </p:grpSpPr>
        <p:sp>
          <p:nvSpPr>
            <p:cNvPr id="975" name=""/>
            <p:cNvSpPr/>
            <p:nvPr/>
          </p:nvSpPr>
          <p:spPr>
            <a:xfrm flipV="1">
              <a:off x="12164760" y="2425320"/>
              <a:ext cx="0" cy="5816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12001320" y="8242200"/>
              <a:ext cx="177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12001320" y="2443320"/>
              <a:ext cx="177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937160" y="2260440"/>
            <a:ext cx="786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9" name=""/>
          <p:cNvSpPr/>
          <p:nvPr/>
        </p:nvSpPr>
        <p:spPr>
          <a:xfrm>
            <a:off x="10962720" y="2997360"/>
            <a:ext cx="786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0" name=""/>
          <p:cNvSpPr/>
          <p:nvPr/>
        </p:nvSpPr>
        <p:spPr>
          <a:xfrm>
            <a:off x="10949760" y="3683160"/>
            <a:ext cx="786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11230920" y="4530240"/>
            <a:ext cx="446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11230920" y="7070040"/>
            <a:ext cx="446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865080" y="4991040"/>
            <a:ext cx="1739880" cy="17146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1004400" y="6747480"/>
            <a:ext cx="34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5" name=""/>
          <p:cNvSpPr/>
          <p:nvPr/>
        </p:nvSpPr>
        <p:spPr>
          <a:xfrm>
            <a:off x="2119680" y="6760080"/>
            <a:ext cx="34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6" name=""/>
          <p:cNvSpPr/>
          <p:nvPr/>
        </p:nvSpPr>
        <p:spPr>
          <a:xfrm>
            <a:off x="1397160" y="7086600"/>
            <a:ext cx="711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7" name=""/>
          <p:cNvSpPr/>
          <p:nvPr/>
        </p:nvSpPr>
        <p:spPr>
          <a:xfrm>
            <a:off x="344160" y="4863960"/>
            <a:ext cx="535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8" name=""/>
          <p:cNvSpPr/>
          <p:nvPr/>
        </p:nvSpPr>
        <p:spPr>
          <a:xfrm>
            <a:off x="344160" y="5372280"/>
            <a:ext cx="535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9" name=""/>
          <p:cNvSpPr/>
          <p:nvPr/>
        </p:nvSpPr>
        <p:spPr>
          <a:xfrm>
            <a:off x="344160" y="5956200"/>
            <a:ext cx="535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0" name=""/>
          <p:cNvSpPr/>
          <p:nvPr/>
        </p:nvSpPr>
        <p:spPr>
          <a:xfrm>
            <a:off x="2768400" y="4965840"/>
            <a:ext cx="564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1" name=""/>
          <p:cNvSpPr/>
          <p:nvPr/>
        </p:nvSpPr>
        <p:spPr>
          <a:xfrm>
            <a:off x="2768400" y="5473800"/>
            <a:ext cx="564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2" name=""/>
          <p:cNvSpPr/>
          <p:nvPr/>
        </p:nvSpPr>
        <p:spPr>
          <a:xfrm>
            <a:off x="2768400" y="6058080"/>
            <a:ext cx="564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3" name=""/>
          <p:cNvSpPr/>
          <p:nvPr/>
        </p:nvSpPr>
        <p:spPr>
          <a:xfrm>
            <a:off x="6188760" y="2971800"/>
            <a:ext cx="3529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nked to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 b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4" name=""/>
          <p:cNvSpPr/>
          <p:nvPr/>
        </p:nvSpPr>
        <p:spPr>
          <a:xfrm>
            <a:off x="6188760" y="3708360"/>
            <a:ext cx="3529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nked to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 b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5" name=""/>
          <p:cNvSpPr/>
          <p:nvPr/>
        </p:nvSpPr>
        <p:spPr>
          <a:xfrm>
            <a:off x="301680" y="8292960"/>
            <a:ext cx="118746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Rich sufficient statistic condition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r all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dimensional vector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, there is at most one configu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with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= 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17520" y="3746520"/>
            <a:ext cx="5499000" cy="51433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778040" y="5372280"/>
            <a:ext cx="2705040" cy="66024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65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65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Decoding the title of this talk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-619200" y="2260440"/>
            <a:ext cx="1424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Variational and Sequential </a:t>
            </a: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Inference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over </a:t>
            </a: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mbinatorial Spa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619200" y="6553080"/>
            <a:ext cx="56768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Main motivations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uting a posterior distribution, counting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"/>
          <p:cNvSpPr/>
          <p:nvPr/>
        </p:nvSpPr>
        <p:spPr>
          <a:xfrm>
            <a:off x="306720" y="4140360"/>
            <a:ext cx="564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Probabilistic inferenc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"/>
          <p:cNvSpPr/>
          <p:nvPr/>
        </p:nvSpPr>
        <p:spPr>
          <a:xfrm>
            <a:off x="6566040" y="3746520"/>
            <a:ext cx="5752800" cy="51433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"/>
          <p:cNvSpPr/>
          <p:nvPr/>
        </p:nvSpPr>
        <p:spPr>
          <a:xfrm>
            <a:off x="6702480" y="4140360"/>
            <a:ext cx="57783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set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C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is discrete, has exponential size, and is ‘complicated’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Next few slides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amples of such problems (and definition later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997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00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Important property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3924360" y="3313080"/>
            <a:ext cx="6514920" cy="9414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1087560" y="2209680"/>
            <a:ext cx="119124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gradient of the log partition function is equal to the moments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5" name=""/>
          <p:cNvSpPr/>
          <p:nvPr/>
        </p:nvSpPr>
        <p:spPr>
          <a:xfrm>
            <a:off x="1087560" y="4635360"/>
            <a:ext cx="119124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essian of the log partition function is equal to the covariance matrix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3314880" y="6119640"/>
            <a:ext cx="7759440" cy="111924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1201680" y="7823160"/>
            <a:ext cx="119127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nsequence: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is a convex func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7835760" y="3301920"/>
            <a:ext cx="584280" cy="996840"/>
            <a:chOff x="7835760" y="3301920"/>
            <a:chExt cx="584280" cy="996840"/>
          </a:xfrm>
        </p:grpSpPr>
        <p:sp>
          <p:nvSpPr>
            <p:cNvPr id="1009" name=""/>
            <p:cNvSpPr/>
            <p:nvPr/>
          </p:nvSpPr>
          <p:spPr>
            <a:xfrm>
              <a:off x="7856280" y="3473280"/>
              <a:ext cx="5590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835760" y="3301920"/>
              <a:ext cx="58428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T</a:t>
              </a:r>
              <a:endParaRPr b="0" lang="en-US" sz="59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8407440" y="6248520"/>
            <a:ext cx="584280" cy="996840"/>
            <a:chOff x="8407440" y="6248520"/>
            <a:chExt cx="584280" cy="996840"/>
          </a:xfrm>
        </p:grpSpPr>
        <p:sp>
          <p:nvSpPr>
            <p:cNvPr id="1012" name=""/>
            <p:cNvSpPr/>
            <p:nvPr/>
          </p:nvSpPr>
          <p:spPr>
            <a:xfrm>
              <a:off x="8427960" y="6419880"/>
              <a:ext cx="5590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07440" y="6248520"/>
              <a:ext cx="58428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T</a:t>
              </a:r>
              <a:endParaRPr b="0" lang="en-US" sz="59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015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01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82400" y="1080"/>
            <a:ext cx="1203948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38a8"/>
                </a:solidFill>
                <a:latin typeface="Arial"/>
              </a:rPr>
              <a:t>Connection with measure factorizations</a:t>
            </a:r>
            <a:endParaRPr b="0" lang="en-US" sz="4800" spc="-1" strike="noStrike">
              <a:solidFill>
                <a:srgbClr val="2e38a8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84280" y="233280"/>
            <a:ext cx="11886840" cy="5760720"/>
            <a:chOff x="584280" y="233280"/>
            <a:chExt cx="11886840" cy="5760720"/>
          </a:xfrm>
        </p:grpSpPr>
        <p:sp>
          <p:nvSpPr>
            <p:cNvPr id="1022" name=""/>
            <p:cNvSpPr/>
            <p:nvPr/>
          </p:nvSpPr>
          <p:spPr>
            <a:xfrm>
              <a:off x="9753480" y="2717640"/>
              <a:ext cx="2717640" cy="3276360"/>
            </a:xfrm>
            <a:prstGeom prst="rect">
              <a:avLst/>
            </a:prstGeom>
            <a:noFill/>
            <a:ln w="381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023" name="" descr=""/>
            <p:cNvPicPr/>
            <p:nvPr/>
          </p:nvPicPr>
          <p:blipFill>
            <a:blip r:embed="rId1"/>
            <a:stretch/>
          </p:blipFill>
          <p:spPr>
            <a:xfrm>
              <a:off x="584280" y="233280"/>
              <a:ext cx="1447560" cy="28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9923400" y="2721240"/>
              <a:ext cx="438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bba17"/>
                  </a:solidFill>
                  <a:latin typeface="Times New Roman Italic"/>
                  <a:ea typeface="Times New Roman Italic"/>
                </a:rPr>
                <a:t>S</a:t>
              </a:r>
              <a:r>
                <a:rPr b="0" lang="en-US" sz="3900" spc="-1" strike="noStrike" baseline="-6000">
                  <a:solidFill>
                    <a:srgbClr val="0bba17"/>
                  </a:solidFill>
                  <a:latin typeface="Times New Roman"/>
                  <a:ea typeface="Times New Roman"/>
                </a:rPr>
                <a:t>1</a:t>
              </a:r>
              <a:endParaRPr b="0" lang="en-US" sz="39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9923400" y="5273640"/>
              <a:ext cx="438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bba17"/>
                  </a:solidFill>
                  <a:latin typeface="Times New Roman Italic"/>
                  <a:ea typeface="Times New Roman Italic"/>
                </a:rPr>
                <a:t>S</a:t>
              </a:r>
              <a:r>
                <a:rPr b="0" lang="en-US" sz="3900" spc="-1" strike="noStrike" baseline="-6000">
                  <a:solidFill>
                    <a:srgbClr val="0bba17"/>
                  </a:solidFill>
                  <a:latin typeface="Times New Roman"/>
                  <a:ea typeface="Times New Roman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040200" y="4029120"/>
              <a:ext cx="293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Times New Roman Italic"/>
                  <a:ea typeface="Times New Roman Italic"/>
                </a:rPr>
                <a:t>S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10350000" y="3123720"/>
              <a:ext cx="609480" cy="35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10388160" y="5240160"/>
              <a:ext cx="571320" cy="30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1399760" y="4257360"/>
              <a:ext cx="60948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1030" name="" descr=""/>
          <p:cNvPicPr/>
          <p:nvPr/>
        </p:nvPicPr>
        <p:blipFill>
          <a:blip r:embed="rId2"/>
          <a:stretch/>
        </p:blipFill>
        <p:spPr>
          <a:xfrm>
            <a:off x="1015920" y="3098880"/>
            <a:ext cx="8229600" cy="111744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3"/>
          <a:stretch/>
        </p:blipFill>
        <p:spPr>
          <a:xfrm>
            <a:off x="914400" y="5270400"/>
            <a:ext cx="7772400" cy="87624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/>
          <p:nvPr/>
        </p:nvSpPr>
        <p:spPr>
          <a:xfrm>
            <a:off x="541440" y="2197080"/>
            <a:ext cx="1191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Inference on the original problem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3" name=""/>
          <p:cNvSpPr/>
          <p:nvPr/>
        </p:nvSpPr>
        <p:spPr>
          <a:xfrm>
            <a:off x="541440" y="4356000"/>
            <a:ext cx="7772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Inference on a single factor </a:t>
            </a:r>
            <a:r>
              <a:rPr b="0" lang="en-US" sz="42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i</a:t>
            </a: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4" name=""/>
          <p:cNvSpPr/>
          <p:nvPr/>
        </p:nvSpPr>
        <p:spPr>
          <a:xfrm>
            <a:off x="541440" y="6527880"/>
            <a:ext cx="119124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Tractable assumption: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can compute (e.g. using DP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4"/>
          <a:stretch/>
        </p:blipFill>
        <p:spPr>
          <a:xfrm>
            <a:off x="698400" y="7542360"/>
            <a:ext cx="108586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037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04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0" y="-174600"/>
            <a:ext cx="13004640" cy="22082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38a8"/>
                </a:solidFill>
                <a:latin typeface="Arial"/>
              </a:rPr>
              <a:t>Example of an algorithm derived using our framework: Measure Factorization Belief Prop.</a:t>
            </a:r>
            <a:endParaRPr b="0" lang="en-US" sz="48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-152280" y="3084480"/>
            <a:ext cx="7940520" cy="472608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7213680" y="3098880"/>
            <a:ext cx="5486400" cy="23875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rm a set of transformed parameters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one for each factor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5" name=""/>
          <p:cNvSpPr/>
          <p:nvPr/>
        </p:nvSpPr>
        <p:spPr>
          <a:xfrm>
            <a:off x="7746840" y="5740560"/>
            <a:ext cx="4978440" cy="2844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ute moments for each factor using the new transformed paramet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047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05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14400" y="1080"/>
            <a:ext cx="1117584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How did we get to this algorithm?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09760" y="2362320"/>
            <a:ext cx="1032516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Plan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view of the variational framework for graphical mode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to cast combinatorial problems into something that fits this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055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05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e38a8"/>
                </a:solidFill>
                <a:latin typeface="Arial"/>
              </a:rPr>
              <a:t>Representation of convex functions</a:t>
            </a:r>
            <a:endParaRPr b="0" lang="en-US" sz="49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1454040" y="2028960"/>
            <a:ext cx="10096560" cy="635292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1711440" y="8128080"/>
            <a:ext cx="4508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andard / pointwise encod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3" name=""/>
          <p:cNvSpPr/>
          <p:nvPr/>
        </p:nvSpPr>
        <p:spPr>
          <a:xfrm>
            <a:off x="6505560" y="8153280"/>
            <a:ext cx="5130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coded by intercepts of the supporting tangen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4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065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06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-101880" y="1080"/>
            <a:ext cx="1320804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38a8"/>
                </a:solidFill>
                <a:latin typeface="Arial"/>
              </a:rPr>
              <a:t>Connexion: Legendre-Fenchel transformation </a:t>
            </a:r>
            <a:endParaRPr b="0" lang="en-US" sz="48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846000" y="2209680"/>
            <a:ext cx="115952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 operator (a function that takes a function and transforms it into another function) denoted by *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2" name=""/>
          <p:cNvSpPr/>
          <p:nvPr/>
        </p:nvSpPr>
        <p:spPr>
          <a:xfrm>
            <a:off x="846000" y="6197760"/>
            <a:ext cx="115952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Warning: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for pedagogical reasons, assume for now that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is univariate, twice differentiable and strictly convex (can be made more general!!)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0" y="0"/>
            <a:ext cx="9207360" cy="5676840"/>
            <a:chOff x="0" y="0"/>
            <a:chExt cx="9207360" cy="5676840"/>
          </a:xfrm>
        </p:grpSpPr>
        <p:pic>
          <p:nvPicPr>
            <p:cNvPr id="107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0736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5586840" y="5079960"/>
              <a:ext cx="93960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076" name="" descr=""/>
            <p:cNvPicPr/>
            <p:nvPr/>
          </p:nvPicPr>
          <p:blipFill>
            <a:blip r:embed="rId2"/>
            <a:stretch/>
          </p:blipFill>
          <p:spPr>
            <a:xfrm>
              <a:off x="3174840" y="1079640"/>
              <a:ext cx="1803600" cy="614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078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08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Intuition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1"/>
          <a:stretch/>
        </p:blipFill>
        <p:spPr>
          <a:xfrm>
            <a:off x="2819520" y="4025880"/>
            <a:ext cx="7378560" cy="579132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>
            <a:off x="846000" y="2209680"/>
            <a:ext cx="1159524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ppose I give you a tangent/supporting plane.  Encoding a convex function can be done by giving the intercept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c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087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09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Why this particular ‘encoding’?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51040" y="2209680"/>
            <a:ext cx="1189980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Theorem: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en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is convex (and lower semi-continuous):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** =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nsequence: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the log partition function satisfies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** =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What we will do with this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First, apply the definition of Fenchel dual to the func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*, getting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854360" y="7010280"/>
            <a:ext cx="9334440" cy="106704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6328440" y="8420040"/>
            <a:ext cx="5686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is is just the domain of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*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6" name=""/>
          <p:cNvSpPr/>
          <p:nvPr/>
        </p:nvSpPr>
        <p:spPr>
          <a:xfrm>
            <a:off x="2258280" y="6908760"/>
            <a:ext cx="422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**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7" name=""/>
          <p:cNvSpPr/>
          <p:nvPr/>
        </p:nvSpPr>
        <p:spPr>
          <a:xfrm>
            <a:off x="2045160" y="8432640"/>
            <a:ext cx="109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8" name=""/>
          <p:cNvSpPr/>
          <p:nvPr/>
        </p:nvSpPr>
        <p:spPr>
          <a:xfrm rot="5400000">
            <a:off x="2421720" y="7819200"/>
            <a:ext cx="385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=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9169200" y="7772400"/>
            <a:ext cx="711000" cy="76212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101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10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05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Done?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1981080" y="3225960"/>
            <a:ext cx="9334800" cy="1066680"/>
          </a:xfrm>
          <a:prstGeom prst="rect">
            <a:avLst/>
          </a:prstGeom>
          <a:ln w="0">
            <a:noFill/>
          </a:ln>
        </p:spPr>
      </p:pic>
      <p:sp>
        <p:nvSpPr>
          <p:cNvPr id="1108" name=""/>
          <p:cNvSpPr/>
          <p:nvPr/>
        </p:nvSpPr>
        <p:spPr>
          <a:xfrm>
            <a:off x="1029240" y="2260440"/>
            <a:ext cx="8612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vex function are easy to optimize, right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9" name=""/>
          <p:cNvSpPr/>
          <p:nvPr/>
        </p:nvSpPr>
        <p:spPr>
          <a:xfrm>
            <a:off x="829800" y="4699080"/>
            <a:ext cx="11367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Problem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re are exponentially many constraints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111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11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Constraints: realizable moment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97040" y="2286000"/>
            <a:ext cx="114044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ppose I give you a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dimensional vector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μ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d I claim it is the moment of a distribution for some parameters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which I don’t give you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,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but the sufficient statistics are know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8" name=""/>
          <p:cNvSpPr/>
          <p:nvPr/>
        </p:nvSpPr>
        <p:spPr>
          <a:xfrm>
            <a:off x="1523880" y="6134040"/>
            <a:ext cx="331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μ =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 Italic"/>
                <a:ea typeface="Times New Roman Italic"/>
              </a:rPr>
              <a:t>θ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9" name=""/>
          <p:cNvSpPr/>
          <p:nvPr/>
        </p:nvSpPr>
        <p:spPr>
          <a:xfrm>
            <a:off x="923760" y="5219640"/>
            <a:ext cx="783612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.e. claim there is a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ch that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could you check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668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67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-123840"/>
            <a:ext cx="12242880" cy="22082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38a8"/>
                </a:solidFill>
                <a:latin typeface="Arial"/>
              </a:rPr>
              <a:t>Familiar examples of inference problems over combinatorial spaces</a:t>
            </a:r>
            <a:endParaRPr b="0" lang="en-US" sz="48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61480" y="2171880"/>
            <a:ext cx="831780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Perfect bipartite matching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C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t of bijection between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and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ne element in this set (right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ultiply the the weight of each edg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9640800" y="2806560"/>
            <a:ext cx="1739880" cy="17146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9780120" y="4563000"/>
            <a:ext cx="34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"/>
          <p:cNvSpPr/>
          <p:nvPr/>
        </p:nvSpPr>
        <p:spPr>
          <a:xfrm>
            <a:off x="10895400" y="4575600"/>
            <a:ext cx="34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10172880" y="4902120"/>
            <a:ext cx="711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>
            <a:off x="25560" y="6159600"/>
            <a:ext cx="1078560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 twist on the Traveling Salesman Proble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C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Hamiltonian circuits on a grap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ne element in this set (right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ultiply the the weight of each edg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9360000" y="6881760"/>
            <a:ext cx="278136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121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12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80880" y="1080"/>
            <a:ext cx="1224288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Sufficient statistic for graphical model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87280" y="4416480"/>
            <a:ext cx="2552400" cy="2476440"/>
            <a:chOff x="287280" y="4416480"/>
            <a:chExt cx="2552400" cy="2476440"/>
          </a:xfrm>
        </p:grpSpPr>
        <p:grpSp>
          <p:nvGrpSpPr>
            <p:cNvPr id="1128" name=""/>
            <p:cNvGrpSpPr/>
            <p:nvPr/>
          </p:nvGrpSpPr>
          <p:grpSpPr>
            <a:xfrm>
              <a:off x="730080" y="4416480"/>
              <a:ext cx="1639080" cy="2476440"/>
              <a:chOff x="730080" y="4416480"/>
              <a:chExt cx="1639080" cy="2476440"/>
            </a:xfrm>
          </p:grpSpPr>
          <p:sp>
            <p:nvSpPr>
              <p:cNvPr id="1129" name=""/>
              <p:cNvSpPr/>
              <p:nvPr/>
            </p:nvSpPr>
            <p:spPr>
              <a:xfrm>
                <a:off x="1551240" y="4416480"/>
                <a:ext cx="0" cy="246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369160" y="4416480"/>
                <a:ext cx="0" cy="246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30080" y="4422960"/>
                <a:ext cx="0" cy="246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>
              <a:off x="287280" y="4937040"/>
              <a:ext cx="2539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3760" y="5605560"/>
              <a:ext cx="2539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99880" y="6334200"/>
              <a:ext cx="2539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2400" y="4640400"/>
              <a:ext cx="4874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289520" y="4640400"/>
              <a:ext cx="48708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09240" y="4640400"/>
              <a:ext cx="4874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93560" y="5342040"/>
              <a:ext cx="4874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300320" y="5342040"/>
              <a:ext cx="4874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120400" y="5342040"/>
              <a:ext cx="4874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4720" y="6162840"/>
              <a:ext cx="487440" cy="48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311840" y="6162840"/>
              <a:ext cx="487440" cy="48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31560" y="6162840"/>
              <a:ext cx="485640" cy="48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79600" y="4545000"/>
              <a:ext cx="2944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+</a:t>
              </a:r>
              <a:endParaRPr b="0" lang="en-US" sz="35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79600" y="5268960"/>
              <a:ext cx="2944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+</a:t>
              </a:r>
              <a:endParaRPr b="0" lang="en-US" sz="35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79600" y="6094440"/>
              <a:ext cx="2944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+</a:t>
              </a:r>
              <a:endParaRPr b="0" lang="en-US" sz="35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38920" y="5268960"/>
              <a:ext cx="2030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99249"/>
                  </a:solidFill>
                  <a:latin typeface="Arial Narrow"/>
                  <a:ea typeface="Arial Narrow"/>
                </a:rPr>
                <a:t>-</a:t>
              </a:r>
              <a:endParaRPr b="0" lang="en-US" sz="35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80600" y="4570560"/>
              <a:ext cx="2944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+</a:t>
              </a:r>
              <a:endParaRPr b="0" lang="en-US" sz="35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64120" y="6081840"/>
              <a:ext cx="2030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99249"/>
                  </a:solidFill>
                  <a:latin typeface="Arial Narrow"/>
                  <a:ea typeface="Arial Narrow"/>
                </a:rPr>
                <a:t>-</a:t>
              </a:r>
              <a:endParaRPr b="0" lang="en-US" sz="35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290320" y="6094440"/>
              <a:ext cx="2030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99249"/>
                  </a:solidFill>
                  <a:latin typeface="Arial Narrow"/>
                  <a:ea typeface="Arial Narrow"/>
                </a:rPr>
                <a:t>-</a:t>
              </a:r>
              <a:endParaRPr b="0" lang="en-US" sz="35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39200" y="5294520"/>
              <a:ext cx="2030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99249"/>
                  </a:solidFill>
                  <a:latin typeface="Arial Narrow"/>
                  <a:ea typeface="Arial Narrow"/>
                </a:rPr>
                <a:t>-</a:t>
              </a:r>
              <a:endParaRPr b="0" lang="en-US" sz="35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206440" y="4570560"/>
              <a:ext cx="2944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+</a:t>
              </a:r>
              <a:endParaRPr b="0" lang="en-US" sz="35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4055040" y="4521240"/>
            <a:ext cx="159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 =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5702400" y="2438280"/>
            <a:ext cx="177840" cy="5816520"/>
            <a:chOff x="5702400" y="2438280"/>
            <a:chExt cx="177840" cy="5816520"/>
          </a:xfrm>
        </p:grpSpPr>
        <p:sp>
          <p:nvSpPr>
            <p:cNvPr id="1155" name=""/>
            <p:cNvSpPr/>
            <p:nvPr/>
          </p:nvSpPr>
          <p:spPr>
            <a:xfrm flipH="1">
              <a:off x="5713560" y="2438280"/>
              <a:ext cx="1440" cy="5816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02400" y="2438280"/>
              <a:ext cx="177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702400" y="8235720"/>
              <a:ext cx="177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9817200" y="2425320"/>
            <a:ext cx="177840" cy="5816880"/>
            <a:chOff x="9817200" y="2425320"/>
            <a:chExt cx="177840" cy="5816880"/>
          </a:xfrm>
        </p:grpSpPr>
        <p:sp>
          <p:nvSpPr>
            <p:cNvPr id="1159" name=""/>
            <p:cNvSpPr/>
            <p:nvPr/>
          </p:nvSpPr>
          <p:spPr>
            <a:xfrm flipV="1">
              <a:off x="9980640" y="2425320"/>
              <a:ext cx="0" cy="5816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9817200" y="8242200"/>
              <a:ext cx="177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9817200" y="2443320"/>
              <a:ext cx="177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6697440" y="2260440"/>
            <a:ext cx="2281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+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3" name=""/>
          <p:cNvSpPr/>
          <p:nvPr/>
        </p:nvSpPr>
        <p:spPr>
          <a:xfrm>
            <a:off x="6759000" y="2997360"/>
            <a:ext cx="216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4" name=""/>
          <p:cNvSpPr/>
          <p:nvPr/>
        </p:nvSpPr>
        <p:spPr>
          <a:xfrm>
            <a:off x="6760800" y="3683160"/>
            <a:ext cx="2281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+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5" name=""/>
          <p:cNvSpPr/>
          <p:nvPr/>
        </p:nvSpPr>
        <p:spPr>
          <a:xfrm>
            <a:off x="5857200" y="5537160"/>
            <a:ext cx="408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+,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+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6" name=""/>
          <p:cNvSpPr/>
          <p:nvPr/>
        </p:nvSpPr>
        <p:spPr>
          <a:xfrm>
            <a:off x="5918760" y="6222960"/>
            <a:ext cx="3967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+,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7" name=""/>
          <p:cNvSpPr/>
          <p:nvPr/>
        </p:nvSpPr>
        <p:spPr>
          <a:xfrm rot="5400000">
            <a:off x="7878240" y="4555440"/>
            <a:ext cx="446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8" name=""/>
          <p:cNvSpPr/>
          <p:nvPr/>
        </p:nvSpPr>
        <p:spPr>
          <a:xfrm rot="5400000">
            <a:off x="7878240" y="7095600"/>
            <a:ext cx="446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2437560" y="2641320"/>
            <a:ext cx="4203720" cy="215892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0" name=""/>
          <p:cNvSpPr/>
          <p:nvPr/>
        </p:nvSpPr>
        <p:spPr>
          <a:xfrm>
            <a:off x="2413080" y="5232240"/>
            <a:ext cx="3479760" cy="113040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1" name=""/>
          <p:cNvSpPr/>
          <p:nvPr/>
        </p:nvSpPr>
        <p:spPr>
          <a:xfrm>
            <a:off x="3024360" y="2717640"/>
            <a:ext cx="172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One nod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2" name=""/>
          <p:cNvSpPr/>
          <p:nvPr/>
        </p:nvSpPr>
        <p:spPr>
          <a:xfrm>
            <a:off x="2814480" y="6337440"/>
            <a:ext cx="247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Pairs of nod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3" name=""/>
          <p:cNvSpPr/>
          <p:nvPr/>
        </p:nvSpPr>
        <p:spPr>
          <a:xfrm>
            <a:off x="12395160" y="2425680"/>
            <a:ext cx="0" cy="5845320"/>
          </a:xfrm>
          <a:prstGeom prst="line">
            <a:avLst/>
          </a:prstGeom>
          <a:ln w="255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4" name=""/>
          <p:cNvSpPr/>
          <p:nvPr/>
        </p:nvSpPr>
        <p:spPr>
          <a:xfrm>
            <a:off x="12614040" y="4991040"/>
            <a:ext cx="227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 Italic"/>
                <a:ea typeface="Times New Roman Italic"/>
              </a:rPr>
              <a:t>J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10401480" y="2438280"/>
            <a:ext cx="177480" cy="5816520"/>
            <a:chOff x="10401480" y="2438280"/>
            <a:chExt cx="177480" cy="5816520"/>
          </a:xfrm>
        </p:grpSpPr>
        <p:sp>
          <p:nvSpPr>
            <p:cNvPr id="1176" name=""/>
            <p:cNvSpPr/>
            <p:nvPr/>
          </p:nvSpPr>
          <p:spPr>
            <a:xfrm flipH="1">
              <a:off x="10411920" y="2438280"/>
              <a:ext cx="1080" cy="5816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401480" y="2438280"/>
              <a:ext cx="177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401480" y="8235720"/>
              <a:ext cx="177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12001320" y="2425320"/>
            <a:ext cx="177480" cy="5816880"/>
            <a:chOff x="12001320" y="2425320"/>
            <a:chExt cx="177480" cy="5816880"/>
          </a:xfrm>
        </p:grpSpPr>
        <p:sp>
          <p:nvSpPr>
            <p:cNvPr id="1180" name=""/>
            <p:cNvSpPr/>
            <p:nvPr/>
          </p:nvSpPr>
          <p:spPr>
            <a:xfrm flipV="1">
              <a:off x="12164760" y="2425320"/>
              <a:ext cx="0" cy="5816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12001320" y="8242200"/>
              <a:ext cx="177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12001320" y="2443320"/>
              <a:ext cx="177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10872000" y="2260440"/>
            <a:ext cx="109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4" name=""/>
          <p:cNvSpPr/>
          <p:nvPr/>
        </p:nvSpPr>
        <p:spPr>
          <a:xfrm>
            <a:off x="10843560" y="2997360"/>
            <a:ext cx="1024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5" name=""/>
          <p:cNvSpPr/>
          <p:nvPr/>
        </p:nvSpPr>
        <p:spPr>
          <a:xfrm>
            <a:off x="10795680" y="3683160"/>
            <a:ext cx="109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6" name=""/>
          <p:cNvSpPr/>
          <p:nvPr/>
        </p:nvSpPr>
        <p:spPr>
          <a:xfrm>
            <a:off x="10506600" y="5549760"/>
            <a:ext cx="1571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</a:t>
            </a:r>
            <a:r>
              <a:rPr b="0" lang="en-US" sz="3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1,+;1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7" name=""/>
          <p:cNvSpPr/>
          <p:nvPr/>
        </p:nvSpPr>
        <p:spPr>
          <a:xfrm>
            <a:off x="10511640" y="6235560"/>
            <a:ext cx="151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</a:t>
            </a:r>
            <a:r>
              <a:rPr b="0" lang="en-US" sz="3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,1,+;1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8" name=""/>
          <p:cNvSpPr/>
          <p:nvPr/>
        </p:nvSpPr>
        <p:spPr>
          <a:xfrm rot="5400000">
            <a:off x="11230920" y="4530240"/>
            <a:ext cx="446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9" name=""/>
          <p:cNvSpPr/>
          <p:nvPr/>
        </p:nvSpPr>
        <p:spPr>
          <a:xfrm rot="5400000">
            <a:off x="11230920" y="7070040"/>
            <a:ext cx="446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191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19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Constraints: realizable moment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97040" y="2286000"/>
            <a:ext cx="114044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ppose I give you a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dimensional vector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μ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d I claim it is the moment of a distribution for some parameters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which I don’t give you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,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but the sufficient statistics are know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8" name=""/>
          <p:cNvSpPr/>
          <p:nvPr/>
        </p:nvSpPr>
        <p:spPr>
          <a:xfrm>
            <a:off x="1523880" y="6134040"/>
            <a:ext cx="331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μ =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 Italic"/>
                <a:ea typeface="Times New Roman Italic"/>
              </a:rPr>
              <a:t>θ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9" name=""/>
          <p:cNvSpPr/>
          <p:nvPr/>
        </p:nvSpPr>
        <p:spPr>
          <a:xfrm>
            <a:off x="923760" y="5181480"/>
            <a:ext cx="783612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.e. claim there is a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θ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ch that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could you check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10015560" y="4710240"/>
            <a:ext cx="1778040" cy="5995080"/>
            <a:chOff x="10015560" y="4710240"/>
            <a:chExt cx="1778040" cy="5995080"/>
          </a:xfrm>
        </p:grpSpPr>
        <p:grpSp>
          <p:nvGrpSpPr>
            <p:cNvPr id="1201" name=""/>
            <p:cNvGrpSpPr/>
            <p:nvPr/>
          </p:nvGrpSpPr>
          <p:grpSpPr>
            <a:xfrm>
              <a:off x="10015560" y="4888080"/>
              <a:ext cx="177840" cy="5817240"/>
              <a:chOff x="10015560" y="4888080"/>
              <a:chExt cx="177840" cy="5817240"/>
            </a:xfrm>
          </p:grpSpPr>
          <p:sp>
            <p:nvSpPr>
              <p:cNvPr id="1202" name=""/>
              <p:cNvSpPr/>
              <p:nvPr/>
            </p:nvSpPr>
            <p:spPr>
              <a:xfrm flipH="1">
                <a:off x="10026720" y="4888080"/>
                <a:ext cx="1440" cy="581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0015560" y="4888080"/>
                <a:ext cx="17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015560" y="10686240"/>
                <a:ext cx="17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11615760" y="4875120"/>
              <a:ext cx="177840" cy="5817600"/>
              <a:chOff x="11615760" y="4875120"/>
              <a:chExt cx="177840" cy="5817600"/>
            </a:xfrm>
          </p:grpSpPr>
          <p:sp>
            <p:nvSpPr>
              <p:cNvPr id="1206" name=""/>
              <p:cNvSpPr/>
              <p:nvPr/>
            </p:nvSpPr>
            <p:spPr>
              <a:xfrm flipV="1">
                <a:off x="11779200" y="4875120"/>
                <a:ext cx="0" cy="581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11615760" y="10692720"/>
                <a:ext cx="17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11615760" y="4893120"/>
                <a:ext cx="17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10480320" y="4710240"/>
              <a:ext cx="1110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μ</a:t>
              </a:r>
              <a:r>
                <a:rPr b="0" lang="en-US" sz="42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1,1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42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0451880" y="544680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μ</a:t>
              </a:r>
              <a:r>
                <a:rPr b="0" lang="en-US" sz="42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1,1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42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0404360" y="6132600"/>
              <a:ext cx="1110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μ</a:t>
              </a:r>
              <a:r>
                <a:rPr b="0" lang="en-US" sz="42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1,2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42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0093680" y="8000280"/>
              <a:ext cx="1631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μ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1,1,+;1,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0097640" y="8686080"/>
              <a:ext cx="1570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μ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1,1,+;1,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5400000">
              <a:off x="10846800" y="6980040"/>
              <a:ext cx="446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..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5400000">
              <a:off x="10846800" y="9520920"/>
              <a:ext cx="446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..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1181160" y="8102520"/>
            <a:ext cx="6222960" cy="128268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685800" y="7696080"/>
            <a:ext cx="8255160" cy="19051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8" name=""/>
          <p:cNvSpPr/>
          <p:nvPr/>
        </p:nvSpPr>
        <p:spPr>
          <a:xfrm>
            <a:off x="7940160" y="8813880"/>
            <a:ext cx="788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tc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220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22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Constraints: realizable moment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00280" y="2235240"/>
            <a:ext cx="1179828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Theorem: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for </a:t>
            </a:r>
            <a:r>
              <a:rPr b="0" lang="en-US" sz="4200" spc="-1" strike="noStrike">
                <a:solidFill>
                  <a:srgbClr val="000000"/>
                </a:solidFill>
                <a:latin typeface="Arial Narrow Italic"/>
                <a:ea typeface="Arial Narrow Italic"/>
              </a:rPr>
              <a:t>trees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,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μ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 a realizable moment if and only if </a:t>
            </a:r>
            <a:r>
              <a:rPr b="0" lang="en-US" sz="4200" spc="-1" strike="noStrike">
                <a:solidFill>
                  <a:srgbClr val="000000"/>
                </a:solidFill>
                <a:latin typeface="Arial Narrow Italic"/>
                <a:ea typeface="Arial Narrow Italic"/>
              </a:rPr>
              <a:t>pairwise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marginalization conditions are m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 </a:t>
            </a:r>
            <a:r>
              <a:rPr b="0" lang="en-US" sz="4200" spc="-1" strike="noStrike">
                <a:solidFill>
                  <a:srgbClr val="000000"/>
                </a:solidFill>
                <a:latin typeface="Arial Narrow Italic"/>
                <a:ea typeface="Arial Narrow Italic"/>
              </a:rPr>
              <a:t>cyclic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graphs, higher order marginalization constraints needed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228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23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Belief propagation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47640" y="2235240"/>
            <a:ext cx="121032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Main idea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en if there are cycles, use only pairwise marginalization constraints (a relaxation of the optimization problem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t can be shown that optimizing this relaxed problem yields the familiar BP algorithm </a:t>
            </a:r>
            <a:r>
              <a:rPr b="0" lang="en-US" sz="3300" spc="-1" strike="noStrike">
                <a:solidFill>
                  <a:srgbClr val="000000"/>
                </a:solidFill>
                <a:latin typeface="Arial Narrow"/>
                <a:ea typeface="Arial Narrow"/>
              </a:rPr>
              <a:t>(actually, the objective also needs to be simplified a little bit)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23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23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Back to combinatorial spaces...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73200" y="1930320"/>
            <a:ext cx="123570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First step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we showed that under the rich sufficient statistic condition, the following two distributions are equivalent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2781360" y="7947000"/>
            <a:ext cx="7442280" cy="173052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2"/>
          <a:stretch/>
        </p:blipFill>
        <p:spPr>
          <a:xfrm>
            <a:off x="1308240" y="3797280"/>
            <a:ext cx="10375920" cy="3314880"/>
          </a:xfrm>
          <a:prstGeom prst="rect">
            <a:avLst/>
          </a:prstGeom>
          <a:ln w="0">
            <a:noFill/>
          </a:ln>
        </p:spPr>
      </p:pic>
      <p:sp>
        <p:nvSpPr>
          <p:cNvPr id="1245" name=""/>
          <p:cNvSpPr/>
          <p:nvPr/>
        </p:nvSpPr>
        <p:spPr>
          <a:xfrm>
            <a:off x="2641680" y="3479760"/>
            <a:ext cx="9524880" cy="40640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247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25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Back to combinatorial space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960" y="2336760"/>
            <a:ext cx="123570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econd step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pick a variational algorithm an look at the messages sent in the equivalent bipartite grap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825480" y="4457880"/>
            <a:ext cx="1135368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25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25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Back to combinatorial space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23960" y="2336760"/>
            <a:ext cx="123570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Third step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address one last problem..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oring a single message </a:t>
            </a: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would take exponential memory!  (Recall that </a:t>
            </a: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is an element of a large combinatorial space)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>
            <a:off x="825480" y="5219640"/>
            <a:ext cx="1135368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4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265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26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2e38a8"/>
                </a:solidFill>
                <a:latin typeface="Arial"/>
              </a:rPr>
              <a:t>Representing the messages </a:t>
            </a:r>
            <a:r>
              <a:rPr b="0" lang="en-US" sz="5300" spc="-1" strike="noStrike">
                <a:solidFill>
                  <a:srgbClr val="2e38a8"/>
                </a:solidFill>
                <a:latin typeface="Times New Roman Italic"/>
                <a:ea typeface="Times New Roman Italic"/>
              </a:rPr>
              <a:t>M</a:t>
            </a:r>
            <a:r>
              <a:rPr b="0" lang="en-US" sz="5300" spc="-1" strike="noStrike">
                <a:solidFill>
                  <a:srgbClr val="2e38a8"/>
                </a:solidFill>
                <a:latin typeface="Times New Roman"/>
                <a:ea typeface="Times New Roman"/>
              </a:rPr>
              <a:t>(</a:t>
            </a:r>
            <a:r>
              <a:rPr b="0" lang="en-US" sz="5300" spc="-1" strike="noStrike">
                <a:solidFill>
                  <a:srgbClr val="2e38a8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5300" spc="-1" strike="noStrike">
                <a:solidFill>
                  <a:srgbClr val="2e38a8"/>
                </a:solidFill>
                <a:latin typeface="Times New Roman"/>
                <a:ea typeface="Times New Roman"/>
              </a:rPr>
              <a:t>)</a:t>
            </a:r>
            <a:endParaRPr b="0" lang="en-US" sz="53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47640" y="2184480"/>
            <a:ext cx="12357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Key idea: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messages </a:t>
            </a: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M</a:t>
            </a:r>
            <a:r>
              <a:rPr b="0" lang="en-US" sz="4000" spc="-1" strike="noStrike" baseline="-6000">
                <a:solidFill>
                  <a:srgbClr val="000000"/>
                </a:solidFill>
                <a:latin typeface="Times New Roman Italic"/>
                <a:ea typeface="Times New Roman Italic"/>
              </a:rPr>
              <a:t>j→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n be shown to belong to the same exponential family the one associated to factor </a:t>
            </a: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0" y="0"/>
            <a:ext cx="12526920" cy="4824360"/>
            <a:chOff x="0" y="0"/>
            <a:chExt cx="12526920" cy="4824360"/>
          </a:xfrm>
        </p:grpSpPr>
        <p:pic>
          <p:nvPicPr>
            <p:cNvPr id="1273" name="" descr=""/>
            <p:cNvPicPr/>
            <p:nvPr/>
          </p:nvPicPr>
          <p:blipFill>
            <a:blip r:embed="rId1"/>
            <a:stretch/>
          </p:blipFill>
          <p:spPr>
            <a:xfrm>
              <a:off x="3289320" y="0"/>
              <a:ext cx="92376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3355920" y="3979800"/>
              <a:ext cx="1509840" cy="84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275" name="" descr=""/>
            <p:cNvPicPr/>
            <p:nvPr/>
          </p:nvPicPr>
          <p:blipFill>
            <a:blip r:embed="rId2"/>
            <a:stretch/>
          </p:blipFill>
          <p:spPr>
            <a:xfrm>
              <a:off x="0" y="150840"/>
              <a:ext cx="4481640" cy="70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6" name=""/>
          <p:cNvSpPr/>
          <p:nvPr/>
        </p:nvSpPr>
        <p:spPr>
          <a:xfrm>
            <a:off x="647640" y="5562720"/>
            <a:ext cx="12357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is is what gets calculated in the pseudo-code shown earlier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3"/>
          <a:stretch/>
        </p:blipFill>
        <p:spPr>
          <a:xfrm>
            <a:off x="1930320" y="6286680"/>
            <a:ext cx="7940880" cy="472428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4"/>
          <a:stretch/>
        </p:blipFill>
        <p:spPr>
          <a:xfrm>
            <a:off x="7899480" y="383544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/>
          <p:cNvPicPr/>
          <p:nvPr/>
        </p:nvPicPr>
        <p:blipFill>
          <a:blip r:embed="rId5"/>
          <a:stretch/>
        </p:blipFill>
        <p:spPr>
          <a:xfrm>
            <a:off x="9867960" y="3835440"/>
            <a:ext cx="291960" cy="1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281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28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Experiment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104840" y="2311560"/>
            <a:ext cx="115696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Matching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aring to RMS to true posterior in small graphs, and reconstructing matchings from noisy observations in large graphs (averaged over 100 run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8" name=""/>
          <p:cNvSpPr/>
          <p:nvPr/>
        </p:nvSpPr>
        <p:spPr>
          <a:xfrm>
            <a:off x="1104840" y="5003640"/>
            <a:ext cx="1156968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ynthetic data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andom bipartite graphs with edge appearance probability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9" name=""/>
          <p:cNvSpPr/>
          <p:nvPr/>
        </p:nvSpPr>
        <p:spPr>
          <a:xfrm>
            <a:off x="1104840" y="7289640"/>
            <a:ext cx="115696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mpetitor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fully polynomial randomized algorithm (FPRAS) [Rasmussen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291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29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Result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1"/>
          <a:stretch/>
        </p:blipFill>
        <p:spPr>
          <a:xfrm>
            <a:off x="482760" y="3809880"/>
            <a:ext cx="5400360" cy="439416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2"/>
          <a:stretch/>
        </p:blipFill>
        <p:spPr>
          <a:xfrm>
            <a:off x="6676920" y="3911760"/>
            <a:ext cx="5400720" cy="4394160"/>
          </a:xfrm>
          <a:prstGeom prst="rect">
            <a:avLst/>
          </a:prstGeom>
          <a:ln w="0">
            <a:noFill/>
          </a:ln>
        </p:spPr>
      </p:pic>
      <p:sp>
        <p:nvSpPr>
          <p:cNvPr id="1299" name=""/>
          <p:cNvSpPr/>
          <p:nvPr/>
        </p:nvSpPr>
        <p:spPr>
          <a:xfrm>
            <a:off x="459000" y="2959200"/>
            <a:ext cx="614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Performance on  </a:t>
            </a:r>
            <a:r>
              <a:rPr b="0" lang="en-US" sz="42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p</a:t>
            </a: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=9/10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0" name=""/>
          <p:cNvSpPr/>
          <p:nvPr/>
        </p:nvSpPr>
        <p:spPr>
          <a:xfrm>
            <a:off x="7121520" y="2324160"/>
            <a:ext cx="5194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Performance as a function of  </a:t>
            </a:r>
            <a:r>
              <a:rPr b="0" lang="en-US" sz="42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1" name=""/>
          <p:cNvSpPr/>
          <p:nvPr/>
        </p:nvSpPr>
        <p:spPr>
          <a:xfrm>
            <a:off x="2749680" y="8204040"/>
            <a:ext cx="1541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gscal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682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685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30120" y="-123840"/>
            <a:ext cx="12344400" cy="22082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38a8"/>
                </a:solidFill>
                <a:latin typeface="Arial"/>
              </a:rPr>
              <a:t>Perhaps less familiar examples of inference problems over combinatorial spaces</a:t>
            </a:r>
            <a:endParaRPr b="0" lang="en-US" sz="48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10731600" y="2173320"/>
            <a:ext cx="1434960" cy="194796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851040" y="2158920"/>
            <a:ext cx="96138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unting </a:t>
            </a:r>
            <a:r>
              <a:rPr b="0" lang="en-US" sz="4200" spc="-1" strike="noStrike">
                <a:solidFill>
                  <a:srgbClr val="000000"/>
                </a:solidFill>
                <a:latin typeface="Arial Narrow Bold Italic"/>
                <a:ea typeface="Arial Narrow Bold Italic"/>
              </a:rPr>
              <a:t>linearizations</a:t>
            </a: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 of a partial orders </a:t>
            </a:r>
            <a:r>
              <a:rPr b="0" lang="en-US" sz="42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Equivalently: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number of ways to topologically sort a DAG (applications in ranking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838080" y="4610160"/>
            <a:ext cx="2184480" cy="2349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187800" y="4800600"/>
            <a:ext cx="96138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unting </a:t>
            </a:r>
            <a:r>
              <a:rPr b="0" lang="en-US" sz="4200" spc="-1" strike="noStrike">
                <a:solidFill>
                  <a:srgbClr val="000000"/>
                </a:solidFill>
                <a:latin typeface="Arial Narrow Bold Italic"/>
                <a:ea typeface="Arial Narrow Bold Italic"/>
              </a:rPr>
              <a:t>plane parti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iling up cubes such that stacks are in increasing heights (applications in stat. mech.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10350360" y="740412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749160" y="7213680"/>
            <a:ext cx="96141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unting </a:t>
            </a:r>
            <a:r>
              <a:rPr b="0" lang="en-US" sz="4200" spc="-1" strike="noStrike">
                <a:solidFill>
                  <a:srgbClr val="000000"/>
                </a:solidFill>
                <a:latin typeface="Arial Narrow Bold Italic"/>
                <a:ea typeface="Arial Narrow Bold Italic"/>
              </a:rPr>
              <a:t>Self Avoiding Walks </a:t>
            </a: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(SAW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s in modeling knot-theoretic properties of prote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303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306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01520" y="1080"/>
            <a:ext cx="1280160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38a8"/>
                </a:solidFill>
                <a:latin typeface="Arial"/>
              </a:rPr>
              <a:t>Application to multiple sequence alignment</a:t>
            </a:r>
            <a:endParaRPr b="0" lang="en-US" sz="48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82560" y="2247840"/>
            <a:ext cx="116204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Model of alignment: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k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partite transitive matchings with  ordering constrain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1314360" y="4152960"/>
            <a:ext cx="4470480" cy="419112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>
            <a:off x="1073160" y="3968640"/>
            <a:ext cx="5346720" cy="4089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82440" y="0"/>
            <a:ext cx="5581800" cy="9321480"/>
            <a:chOff x="82440" y="0"/>
            <a:chExt cx="5581800" cy="9321480"/>
          </a:xfrm>
        </p:grpSpPr>
        <p:sp>
          <p:nvSpPr>
            <p:cNvPr id="1313" name=""/>
            <p:cNvSpPr/>
            <p:nvPr/>
          </p:nvSpPr>
          <p:spPr>
            <a:xfrm>
              <a:off x="1727280" y="7672320"/>
              <a:ext cx="3936960" cy="1649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314" name="" descr=""/>
            <p:cNvPicPr/>
            <p:nvPr/>
          </p:nvPicPr>
          <p:blipFill>
            <a:blip r:embed="rId2"/>
            <a:stretch/>
          </p:blipFill>
          <p:spPr>
            <a:xfrm>
              <a:off x="82440" y="0"/>
              <a:ext cx="380052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5" name=""/>
          <p:cNvGrpSpPr/>
          <p:nvPr/>
        </p:nvGrpSpPr>
        <p:grpSpPr>
          <a:xfrm>
            <a:off x="133200" y="154080"/>
            <a:ext cx="11265120" cy="9211680"/>
            <a:chOff x="133200" y="154080"/>
            <a:chExt cx="11265120" cy="9211680"/>
          </a:xfrm>
        </p:grpSpPr>
        <p:pic>
          <p:nvPicPr>
            <p:cNvPr id="1316" name="" descr=""/>
            <p:cNvPicPr/>
            <p:nvPr/>
          </p:nvPicPr>
          <p:blipFill>
            <a:blip r:embed="rId3"/>
            <a:stretch/>
          </p:blipFill>
          <p:spPr>
            <a:xfrm>
              <a:off x="133200" y="154080"/>
              <a:ext cx="281160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4"/>
            <a:stretch/>
          </p:blipFill>
          <p:spPr>
            <a:xfrm>
              <a:off x="210960" y="1884240"/>
              <a:ext cx="137340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5"/>
            <a:stretch/>
          </p:blipFill>
          <p:spPr>
            <a:xfrm>
              <a:off x="210960" y="3664080"/>
              <a:ext cx="1357560" cy="16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9" name=""/>
            <p:cNvGrpSpPr/>
            <p:nvPr/>
          </p:nvGrpSpPr>
          <p:grpSpPr>
            <a:xfrm>
              <a:off x="10307160" y="4244760"/>
              <a:ext cx="596880" cy="545760"/>
              <a:chOff x="10307160" y="4244760"/>
              <a:chExt cx="596880" cy="545760"/>
            </a:xfrm>
          </p:grpSpPr>
          <p:sp>
            <p:nvSpPr>
              <p:cNvPr id="1320" name=""/>
              <p:cNvSpPr/>
              <p:nvPr/>
            </p:nvSpPr>
            <p:spPr>
              <a:xfrm flipH="1">
                <a:off x="10335600" y="4244760"/>
                <a:ext cx="568440" cy="54576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 flipV="1">
                <a:off x="10307160" y="4258800"/>
                <a:ext cx="500040" cy="47088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10307160" y="5972040"/>
              <a:ext cx="596880" cy="545760"/>
              <a:chOff x="10307160" y="5972040"/>
              <a:chExt cx="596880" cy="545760"/>
            </a:xfrm>
          </p:grpSpPr>
          <p:sp>
            <p:nvSpPr>
              <p:cNvPr id="1323" name=""/>
              <p:cNvSpPr/>
              <p:nvPr/>
            </p:nvSpPr>
            <p:spPr>
              <a:xfrm flipH="1">
                <a:off x="10335600" y="5972040"/>
                <a:ext cx="568440" cy="54576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 flipV="1">
                <a:off x="10307160" y="5986080"/>
                <a:ext cx="500040" cy="47088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10307160" y="7889760"/>
              <a:ext cx="596880" cy="545760"/>
              <a:chOff x="10307160" y="7889760"/>
              <a:chExt cx="596880" cy="545760"/>
            </a:xfrm>
          </p:grpSpPr>
          <p:sp>
            <p:nvSpPr>
              <p:cNvPr id="1326" name=""/>
              <p:cNvSpPr/>
              <p:nvPr/>
            </p:nvSpPr>
            <p:spPr>
              <a:xfrm flipH="1">
                <a:off x="10335600" y="7889760"/>
                <a:ext cx="568440" cy="54576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 flipV="1">
                <a:off x="10307160" y="7903800"/>
                <a:ext cx="500040" cy="47088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>
              <a:off x="7169040" y="3753000"/>
              <a:ext cx="4229280" cy="152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169040" y="5479920"/>
              <a:ext cx="4229280" cy="152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169040" y="7194240"/>
              <a:ext cx="4229280" cy="2171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1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332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335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36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Too many factors!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98160" y="2429280"/>
            <a:ext cx="4679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Generalized setup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707760" y="755640"/>
            <a:ext cx="10398240" cy="6375240"/>
            <a:chOff x="707760" y="755640"/>
            <a:chExt cx="10398240" cy="6375240"/>
          </a:xfrm>
        </p:grpSpPr>
        <p:sp>
          <p:nvSpPr>
            <p:cNvPr id="1340" name=""/>
            <p:cNvSpPr/>
            <p:nvPr/>
          </p:nvSpPr>
          <p:spPr>
            <a:xfrm>
              <a:off x="6902280" y="2622600"/>
              <a:ext cx="4203720" cy="4508280"/>
            </a:xfrm>
            <a:prstGeom prst="rect">
              <a:avLst/>
            </a:prstGeom>
            <a:noFill/>
            <a:ln w="1260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341" name="" descr=""/>
            <p:cNvPicPr/>
            <p:nvPr/>
          </p:nvPicPr>
          <p:blipFill>
            <a:blip r:embed="rId1"/>
            <a:stretch/>
          </p:blipFill>
          <p:spPr>
            <a:xfrm>
              <a:off x="1009800" y="755640"/>
              <a:ext cx="207000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1364040" y="1676880"/>
              <a:ext cx="1371600" cy="268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3" name=""/>
          <p:cNvGrpSpPr/>
          <p:nvPr/>
        </p:nvGrpSpPr>
        <p:grpSpPr>
          <a:xfrm>
            <a:off x="584280" y="228600"/>
            <a:ext cx="3504960" cy="6705720"/>
            <a:chOff x="584280" y="228600"/>
            <a:chExt cx="3504960" cy="6705720"/>
          </a:xfrm>
        </p:grpSpPr>
        <p:sp>
          <p:nvSpPr>
            <p:cNvPr id="1344" name=""/>
            <p:cNvSpPr/>
            <p:nvPr/>
          </p:nvSpPr>
          <p:spPr>
            <a:xfrm>
              <a:off x="1371600" y="3657600"/>
              <a:ext cx="2717640" cy="3276720"/>
            </a:xfrm>
            <a:prstGeom prst="rect">
              <a:avLst/>
            </a:prstGeom>
            <a:noFill/>
            <a:ln w="381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345" name="" descr=""/>
            <p:cNvPicPr/>
            <p:nvPr/>
          </p:nvPicPr>
          <p:blipFill>
            <a:blip r:embed="rId3"/>
            <a:stretch/>
          </p:blipFill>
          <p:spPr>
            <a:xfrm>
              <a:off x="584280" y="228600"/>
              <a:ext cx="14475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6" name=""/>
            <p:cNvSpPr/>
            <p:nvPr/>
          </p:nvSpPr>
          <p:spPr>
            <a:xfrm>
              <a:off x="1539720" y="3667680"/>
              <a:ext cx="438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bba17"/>
                  </a:solidFill>
                  <a:latin typeface="Times New Roman Italic"/>
                  <a:ea typeface="Times New Roman Italic"/>
                </a:rPr>
                <a:t>S</a:t>
              </a:r>
              <a:r>
                <a:rPr b="0" lang="en-US" sz="3900" spc="-1" strike="noStrike" baseline="-6000">
                  <a:solidFill>
                    <a:srgbClr val="0bba17"/>
                  </a:solidFill>
                  <a:latin typeface="Times New Roman"/>
                  <a:ea typeface="Times New Roman"/>
                </a:rPr>
                <a:t>1</a:t>
              </a:r>
              <a:endParaRPr b="0" lang="en-US" sz="39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539720" y="6220440"/>
              <a:ext cx="438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bba17"/>
                  </a:solidFill>
                  <a:latin typeface="Times New Roman Italic"/>
                  <a:ea typeface="Times New Roman Italic"/>
                </a:rPr>
                <a:t>S</a:t>
              </a:r>
              <a:r>
                <a:rPr b="0" lang="en-US" sz="3900" spc="-1" strike="noStrike" baseline="-6000">
                  <a:solidFill>
                    <a:srgbClr val="0bba17"/>
                  </a:solidFill>
                  <a:latin typeface="Times New Roman"/>
                  <a:ea typeface="Times New Roman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63360" y="4975920"/>
              <a:ext cx="293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Times New Roman Italic"/>
                  <a:ea typeface="Times New Roman Italic"/>
                </a:rPr>
                <a:t>S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 flipV="1">
              <a:off x="1968120" y="4064040"/>
              <a:ext cx="60948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2006280" y="6185160"/>
              <a:ext cx="57132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22560" y="5194440"/>
              <a:ext cx="609480" cy="11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5079960" y="4368960"/>
            <a:ext cx="1270080" cy="1269720"/>
          </a:xfrm>
          <a:prstGeom prst="rightArrow">
            <a:avLst>
              <a:gd name="adj1" fmla="val 32000"/>
              <a:gd name="adj2" fmla="val 44012"/>
            </a:avLst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3" name=""/>
          <p:cNvSpPr/>
          <p:nvPr/>
        </p:nvSpPr>
        <p:spPr>
          <a:xfrm>
            <a:off x="814320" y="7664400"/>
            <a:ext cx="11684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Effect on the approximation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n be characterized as an upper bound on the true partition func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4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355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35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Evaluation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838080" y="2705040"/>
            <a:ext cx="10655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lignment: Sum of Pair (SP): 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Fraction of aligned core block residues also aligned in the referenc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2" name=""/>
          <p:cNvSpPr/>
          <p:nvPr/>
        </p:nvSpPr>
        <p:spPr>
          <a:xfrm>
            <a:off x="1376280" y="4533840"/>
            <a:ext cx="88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f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3" name=""/>
          <p:cNvSpPr/>
          <p:nvPr/>
        </p:nvSpPr>
        <p:spPr>
          <a:xfrm>
            <a:off x="5937120" y="4533840"/>
            <a:ext cx="154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ested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0" y="0"/>
            <a:ext cx="5118840" cy="5764320"/>
            <a:chOff x="0" y="0"/>
            <a:chExt cx="5118840" cy="5764320"/>
          </a:xfrm>
        </p:grpSpPr>
        <p:pic>
          <p:nvPicPr>
            <p:cNvPr id="136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1004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6" name=""/>
            <p:cNvSpPr/>
            <p:nvPr/>
          </p:nvSpPr>
          <p:spPr>
            <a:xfrm>
              <a:off x="2847960" y="4816440"/>
              <a:ext cx="338040" cy="947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457800" y="4778280"/>
              <a:ext cx="339840" cy="947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4470840" y="4765680"/>
              <a:ext cx="648000" cy="960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476440" y="4165560"/>
            <a:ext cx="1562040" cy="212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6" y="104"/>
                </a:moveTo>
                <a:lnTo>
                  <a:pt x="16332" y="0"/>
                </a:lnTo>
                <a:lnTo>
                  <a:pt x="16346" y="6578"/>
                </a:lnTo>
                <a:lnTo>
                  <a:pt x="21600" y="16038"/>
                </a:lnTo>
                <a:lnTo>
                  <a:pt x="21600" y="21600"/>
                </a:lnTo>
                <a:lnTo>
                  <a:pt x="7024" y="21600"/>
                </a:lnTo>
                <a:lnTo>
                  <a:pt x="7190" y="16042"/>
                </a:lnTo>
                <a:lnTo>
                  <a:pt x="0" y="6467"/>
                </a:lnTo>
                <a:lnTo>
                  <a:pt x="146" y="104"/>
                </a:lnTo>
                <a:close/>
                <a:moveTo>
                  <a:pt x="146" y="104"/>
                </a:moveTo>
              </a:path>
            </a:pathLst>
          </a:custGeom>
          <a:solidFill>
            <a:srgbClr val="000000">
              <a:alpha val="12000"/>
            </a:srgbClr>
          </a:solidFill>
          <a:ln w="25560">
            <a:solidFill>
              <a:srgbClr val="000000">
                <a:alpha val="1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0" y="0"/>
            <a:ext cx="10351440" cy="5764320"/>
            <a:chOff x="0" y="0"/>
            <a:chExt cx="10351440" cy="5764320"/>
          </a:xfrm>
        </p:grpSpPr>
        <p:pic>
          <p:nvPicPr>
            <p:cNvPr id="137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004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"/>
            <p:cNvSpPr/>
            <p:nvPr/>
          </p:nvSpPr>
          <p:spPr>
            <a:xfrm>
              <a:off x="8080560" y="4816440"/>
              <a:ext cx="338040" cy="947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690400" y="4778280"/>
              <a:ext cx="339840" cy="947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9703440" y="4765680"/>
              <a:ext cx="648000" cy="960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8597880" y="4724280"/>
            <a:ext cx="1879560" cy="10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6" name=""/>
          <p:cNvSpPr/>
          <p:nvPr/>
        </p:nvSpPr>
        <p:spPr>
          <a:xfrm>
            <a:off x="8686800" y="4788000"/>
            <a:ext cx="990720" cy="939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7" name=""/>
          <p:cNvSpPr/>
          <p:nvPr/>
        </p:nvSpPr>
        <p:spPr>
          <a:xfrm>
            <a:off x="7991640" y="4702320"/>
            <a:ext cx="457200" cy="1083960"/>
          </a:xfrm>
          <a:prstGeom prst="line">
            <a:avLst/>
          </a:prstGeom>
          <a:ln w="139680">
            <a:solidFill>
              <a:srgbClr val="0bb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8" name=""/>
          <p:cNvSpPr/>
          <p:nvPr/>
        </p:nvSpPr>
        <p:spPr>
          <a:xfrm>
            <a:off x="11003040" y="4584600"/>
            <a:ext cx="3247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ba17"/>
                </a:solidFill>
                <a:latin typeface="Arial Narrow"/>
                <a:ea typeface="Arial Narrow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9" name=""/>
          <p:cNvSpPr/>
          <p:nvPr/>
        </p:nvSpPr>
        <p:spPr>
          <a:xfrm>
            <a:off x="10934640" y="5257800"/>
            <a:ext cx="569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0" name=""/>
          <p:cNvSpPr/>
          <p:nvPr/>
        </p:nvSpPr>
        <p:spPr>
          <a:xfrm>
            <a:off x="927000" y="7442280"/>
            <a:ext cx="120776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Dataset: </a:t>
            </a:r>
            <a:r>
              <a:rPr b="0" lang="en-US" sz="3900" spc="-1" strike="noStrike">
                <a:solidFill>
                  <a:srgbClr val="000000"/>
                </a:solidFill>
                <a:latin typeface="Arial Narrow"/>
                <a:ea typeface="Arial Narrow"/>
              </a:rPr>
              <a:t>BAliBASE (manually annotated proteins alignments)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1" name=""/>
          <p:cNvSpPr/>
          <p:nvPr/>
        </p:nvSpPr>
        <p:spPr>
          <a:xfrm>
            <a:off x="9594720" y="7989840"/>
            <a:ext cx="37594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Narrow"/>
                <a:ea typeface="Arial Narrow"/>
              </a:rPr>
              <a:t>[Thomson et al., ’99]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383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386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Result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389" name="" descr=""/>
          <p:cNvPicPr/>
          <p:nvPr/>
        </p:nvPicPr>
        <p:blipFill>
          <a:blip r:embed="rId1"/>
          <a:stretch/>
        </p:blipFill>
        <p:spPr>
          <a:xfrm>
            <a:off x="444600" y="1828800"/>
            <a:ext cx="12250800" cy="2844720"/>
          </a:xfrm>
          <a:prstGeom prst="rect">
            <a:avLst/>
          </a:prstGeom>
          <a:ln w="0">
            <a:noFill/>
          </a:ln>
        </p:spPr>
      </p:pic>
      <p:sp>
        <p:nvSpPr>
          <p:cNvPr id="1390" name=""/>
          <p:cNvSpPr/>
          <p:nvPr/>
        </p:nvSpPr>
        <p:spPr>
          <a:xfrm>
            <a:off x="635040" y="5079960"/>
            <a:ext cx="114681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mpetitors: 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730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 Italic"/>
                <a:ea typeface="Arial Narrow Bold Italic"/>
              </a:rPr>
              <a:t>Clustal</a:t>
            </a: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most commonly used alignment package)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3730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 Italic"/>
                <a:ea typeface="Arial Narrow Bold Italic"/>
              </a:rPr>
              <a:t>Probcons</a:t>
            </a: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a state-of-the-art system)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1" name=""/>
          <p:cNvSpPr/>
          <p:nvPr/>
        </p:nvSpPr>
        <p:spPr>
          <a:xfrm>
            <a:off x="9645480" y="6897600"/>
            <a:ext cx="3759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Narrow"/>
                <a:ea typeface="Arial Narrow"/>
              </a:rPr>
              <a:t>[Higgins et al, ’88]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2" name=""/>
          <p:cNvSpPr/>
          <p:nvPr/>
        </p:nvSpPr>
        <p:spPr>
          <a:xfrm>
            <a:off x="7169040" y="7570800"/>
            <a:ext cx="37594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Narrow"/>
                <a:ea typeface="Arial Narrow"/>
              </a:rPr>
              <a:t>[Do et al, ’05]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3" name=""/>
          <p:cNvSpPr/>
          <p:nvPr/>
        </p:nvSpPr>
        <p:spPr>
          <a:xfrm>
            <a:off x="573480" y="8636040"/>
            <a:ext cx="7443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urrent caveat: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runs in cubic ti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395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39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52280" y="-250920"/>
            <a:ext cx="12700080" cy="22082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e38a8"/>
                </a:solidFill>
                <a:latin typeface="Arial"/>
              </a:rPr>
              <a:t>Outline: two frameworks for probabilistic inference over combinatorial spaces</a:t>
            </a:r>
            <a:endParaRPr b="0" lang="en-US" sz="49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344240" y="2552760"/>
            <a:ext cx="10171440" cy="61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2e38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38a8"/>
                </a:solidFill>
                <a:latin typeface="Arial"/>
                <a:ea typeface="Arial"/>
              </a:rPr>
              <a:t>Variational inference by Measure Factorization </a:t>
            </a:r>
            <a:br>
              <a:rPr sz="3600"/>
            </a:br>
            <a:r>
              <a:rPr b="0" lang="en-US" sz="3600" spc="-1" strike="noStrike">
                <a:solidFill>
                  <a:srgbClr val="2e38a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’s guid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etical found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s on multiple sequence align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2e38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38a8"/>
                </a:solidFill>
                <a:latin typeface="Arial Bold"/>
                <a:ea typeface="Arial Bold"/>
              </a:rPr>
              <a:t>Poset Sequential Monte Carlo</a:t>
            </a:r>
            <a:br>
              <a:rPr sz="3600"/>
            </a:br>
            <a:r>
              <a:rPr b="0" lang="en-US" sz="3600" spc="-1" strike="noStrike">
                <a:solidFill>
                  <a:srgbClr val="2e38a8"/>
                </a:solidFill>
                <a:latin typeface="Arial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’s guid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etical found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s on phylogenetic tree infer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2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403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406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07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01520" y="1080"/>
            <a:ext cx="1280160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38a8"/>
                </a:solidFill>
                <a:latin typeface="Arial"/>
              </a:rPr>
              <a:t>Background: Sequential Monte Carlo (SMC)</a:t>
            </a:r>
            <a:endParaRPr b="0" lang="en-US" sz="48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984240" y="6418440"/>
            <a:ext cx="5891400" cy="328284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/>
          <p:cNvPicPr/>
          <p:nvPr/>
        </p:nvPicPr>
        <p:blipFill>
          <a:blip r:embed="rId2"/>
          <a:stretch/>
        </p:blipFill>
        <p:spPr>
          <a:xfrm>
            <a:off x="241200" y="8864640"/>
            <a:ext cx="355680" cy="380880"/>
          </a:xfrm>
          <a:prstGeom prst="rect">
            <a:avLst/>
          </a:prstGeom>
          <a:ln w="0">
            <a:noFill/>
          </a:ln>
        </p:spPr>
      </p:pic>
      <p:pic>
        <p:nvPicPr>
          <p:cNvPr id="1411" name="" descr=""/>
          <p:cNvPicPr/>
          <p:nvPr/>
        </p:nvPicPr>
        <p:blipFill>
          <a:blip r:embed="rId3"/>
          <a:stretch/>
        </p:blipFill>
        <p:spPr>
          <a:xfrm>
            <a:off x="177840" y="6908760"/>
            <a:ext cx="469800" cy="330120"/>
          </a:xfrm>
          <a:prstGeom prst="rect">
            <a:avLst/>
          </a:prstGeom>
          <a:ln w="0">
            <a:noFill/>
          </a:ln>
        </p:spPr>
      </p:pic>
      <p:pic>
        <p:nvPicPr>
          <p:cNvPr id="1412" name="" descr=""/>
          <p:cNvPicPr/>
          <p:nvPr/>
        </p:nvPicPr>
        <p:blipFill>
          <a:blip r:embed="rId4"/>
          <a:stretch/>
        </p:blipFill>
        <p:spPr>
          <a:xfrm>
            <a:off x="8190000" y="3137040"/>
            <a:ext cx="4713120" cy="646416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8376840" y="3632040"/>
            <a:ext cx="288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Initialize [...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4" name=""/>
          <p:cNvSpPr/>
          <p:nvPr/>
        </p:nvSpPr>
        <p:spPr>
          <a:xfrm>
            <a:off x="378000" y="2057400"/>
            <a:ext cx="125218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tandard SMC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 algorithm to sample sequences of length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5" name=""/>
          <p:cNvSpPr/>
          <p:nvPr/>
        </p:nvSpPr>
        <p:spPr>
          <a:xfrm>
            <a:off x="1054080" y="6515280"/>
            <a:ext cx="151128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6" name=""/>
          <p:cNvSpPr/>
          <p:nvPr/>
        </p:nvSpPr>
        <p:spPr>
          <a:xfrm>
            <a:off x="3238560" y="6515280"/>
            <a:ext cx="140976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7" name=""/>
          <p:cNvSpPr/>
          <p:nvPr/>
        </p:nvSpPr>
        <p:spPr>
          <a:xfrm>
            <a:off x="5460840" y="6603840"/>
            <a:ext cx="129564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8" name=""/>
          <p:cNvSpPr/>
          <p:nvPr/>
        </p:nvSpPr>
        <p:spPr>
          <a:xfrm>
            <a:off x="2793960" y="8483760"/>
            <a:ext cx="142236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9" name=""/>
          <p:cNvSpPr/>
          <p:nvPr/>
        </p:nvSpPr>
        <p:spPr>
          <a:xfrm>
            <a:off x="2982600" y="8597880"/>
            <a:ext cx="33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ε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0" name=""/>
          <p:cNvSpPr/>
          <p:nvPr/>
        </p:nvSpPr>
        <p:spPr>
          <a:xfrm>
            <a:off x="1056960" y="6629400"/>
            <a:ext cx="379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1" name=""/>
          <p:cNvSpPr/>
          <p:nvPr/>
        </p:nvSpPr>
        <p:spPr>
          <a:xfrm>
            <a:off x="3291480" y="6629400"/>
            <a:ext cx="408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2" name=""/>
          <p:cNvSpPr/>
          <p:nvPr/>
        </p:nvSpPr>
        <p:spPr>
          <a:xfrm>
            <a:off x="5574240" y="6629400"/>
            <a:ext cx="336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3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424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427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Sequential Monte Carlo (SMC)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>
            <a:off x="996840" y="6027840"/>
            <a:ext cx="6327720" cy="202392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2"/>
          <a:stretch/>
        </p:blipFill>
        <p:spPr>
          <a:xfrm>
            <a:off x="177840" y="6908760"/>
            <a:ext cx="469800" cy="3301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3"/>
          <a:stretch/>
        </p:blipFill>
        <p:spPr>
          <a:xfrm>
            <a:off x="8190000" y="3137040"/>
            <a:ext cx="4713120" cy="646416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8376840" y="3632040"/>
            <a:ext cx="288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Initialize [...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4" name=""/>
          <p:cNvSpPr/>
          <p:nvPr/>
        </p:nvSpPr>
        <p:spPr>
          <a:xfrm>
            <a:off x="8471880" y="5334120"/>
            <a:ext cx="397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.  Sample partial stat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5" name=""/>
          <p:cNvSpPr/>
          <p:nvPr/>
        </p:nvSpPr>
        <p:spPr>
          <a:xfrm>
            <a:off x="8349480" y="4508640"/>
            <a:ext cx="2178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Iterate :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36" name="" descr=""/>
          <p:cNvPicPr/>
          <p:nvPr/>
        </p:nvPicPr>
        <p:blipFill>
          <a:blip r:embed="rId4"/>
          <a:stretch/>
        </p:blipFill>
        <p:spPr>
          <a:xfrm>
            <a:off x="177840" y="4952880"/>
            <a:ext cx="482400" cy="330480"/>
          </a:xfrm>
          <a:prstGeom prst="rect">
            <a:avLst/>
          </a:prstGeom>
          <a:ln w="0">
            <a:noFill/>
          </a:ln>
        </p:spPr>
      </p:pic>
      <p:sp>
        <p:nvSpPr>
          <p:cNvPr id="1437" name=""/>
          <p:cNvSpPr/>
          <p:nvPr/>
        </p:nvSpPr>
        <p:spPr>
          <a:xfrm>
            <a:off x="8229600" y="2502000"/>
            <a:ext cx="4863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MC : Approximation for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5"/>
          <a:stretch/>
        </p:blipFill>
        <p:spPr>
          <a:xfrm>
            <a:off x="12268080" y="2649600"/>
            <a:ext cx="343080" cy="309600"/>
          </a:xfrm>
          <a:prstGeom prst="rect">
            <a:avLst/>
          </a:prstGeom>
          <a:ln w="0">
            <a:noFill/>
          </a:ln>
        </p:spPr>
      </p:pic>
      <p:pic>
        <p:nvPicPr>
          <p:cNvPr id="1439" name="" descr=""/>
          <p:cNvPicPr/>
          <p:nvPr/>
        </p:nvPicPr>
        <p:blipFill>
          <a:blip r:embed="rId6"/>
          <a:stretch/>
        </p:blipFill>
        <p:spPr>
          <a:xfrm>
            <a:off x="9258480" y="6083280"/>
            <a:ext cx="2603160" cy="58428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1054080" y="6515280"/>
            <a:ext cx="151128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1" name=""/>
          <p:cNvSpPr/>
          <p:nvPr/>
        </p:nvSpPr>
        <p:spPr>
          <a:xfrm>
            <a:off x="1056960" y="6629400"/>
            <a:ext cx="379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2" name=""/>
          <p:cNvSpPr/>
          <p:nvPr/>
        </p:nvSpPr>
        <p:spPr>
          <a:xfrm>
            <a:off x="3517920" y="6718320"/>
            <a:ext cx="79992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3" name=""/>
          <p:cNvSpPr/>
          <p:nvPr/>
        </p:nvSpPr>
        <p:spPr>
          <a:xfrm>
            <a:off x="4978440" y="6566040"/>
            <a:ext cx="224784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4" name=""/>
          <p:cNvSpPr/>
          <p:nvPr/>
        </p:nvSpPr>
        <p:spPr>
          <a:xfrm>
            <a:off x="3507120" y="6629400"/>
            <a:ext cx="408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5" name=""/>
          <p:cNvSpPr/>
          <p:nvPr/>
        </p:nvSpPr>
        <p:spPr>
          <a:xfrm>
            <a:off x="5205960" y="6692760"/>
            <a:ext cx="336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6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447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45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5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Sequential Monte Carlo (SMC)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453" name="" descr=""/>
          <p:cNvPicPr/>
          <p:nvPr/>
        </p:nvPicPr>
        <p:blipFill>
          <a:blip r:embed="rId1"/>
          <a:stretch/>
        </p:blipFill>
        <p:spPr>
          <a:xfrm>
            <a:off x="1004760" y="6423120"/>
            <a:ext cx="6120000" cy="1501560"/>
          </a:xfrm>
          <a:prstGeom prst="rect">
            <a:avLst/>
          </a:prstGeom>
          <a:ln w="0">
            <a:noFill/>
          </a:ln>
        </p:spPr>
      </p:pic>
      <p:pic>
        <p:nvPicPr>
          <p:cNvPr id="1454" name="" descr=""/>
          <p:cNvPicPr/>
          <p:nvPr/>
        </p:nvPicPr>
        <p:blipFill>
          <a:blip r:embed="rId2"/>
          <a:stretch/>
        </p:blipFill>
        <p:spPr>
          <a:xfrm>
            <a:off x="177840" y="6908760"/>
            <a:ext cx="469800" cy="330120"/>
          </a:xfrm>
          <a:prstGeom prst="rect">
            <a:avLst/>
          </a:prstGeom>
          <a:ln w="0">
            <a:noFill/>
          </a:ln>
        </p:spPr>
      </p:pic>
      <p:pic>
        <p:nvPicPr>
          <p:cNvPr id="1455" name="" descr=""/>
          <p:cNvPicPr/>
          <p:nvPr/>
        </p:nvPicPr>
        <p:blipFill>
          <a:blip r:embed="rId3"/>
          <a:stretch/>
        </p:blipFill>
        <p:spPr>
          <a:xfrm>
            <a:off x="8190000" y="3137040"/>
            <a:ext cx="4713120" cy="6464160"/>
          </a:xfrm>
          <a:prstGeom prst="rect">
            <a:avLst/>
          </a:prstGeom>
          <a:ln w="0">
            <a:noFill/>
          </a:ln>
        </p:spPr>
      </p:pic>
      <p:sp>
        <p:nvSpPr>
          <p:cNvPr id="1456" name=""/>
          <p:cNvSpPr/>
          <p:nvPr/>
        </p:nvSpPr>
        <p:spPr>
          <a:xfrm>
            <a:off x="8471880" y="5334120"/>
            <a:ext cx="397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.  Sample partial stat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7" name=""/>
          <p:cNvSpPr/>
          <p:nvPr/>
        </p:nvSpPr>
        <p:spPr>
          <a:xfrm>
            <a:off x="8376840" y="3632040"/>
            <a:ext cx="288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Initialize [...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8" name=""/>
          <p:cNvSpPr/>
          <p:nvPr/>
        </p:nvSpPr>
        <p:spPr>
          <a:xfrm>
            <a:off x="8349480" y="4508640"/>
            <a:ext cx="2178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Iterate :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9" name=""/>
          <p:cNvSpPr/>
          <p:nvPr/>
        </p:nvSpPr>
        <p:spPr>
          <a:xfrm>
            <a:off x="10325160" y="6095880"/>
            <a:ext cx="711000" cy="609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4"/>
          <a:stretch/>
        </p:blipFill>
        <p:spPr>
          <a:xfrm>
            <a:off x="177840" y="4952880"/>
            <a:ext cx="482400" cy="330480"/>
          </a:xfrm>
          <a:prstGeom prst="rect">
            <a:avLst/>
          </a:prstGeom>
          <a:ln w="0">
            <a:noFill/>
          </a:ln>
        </p:spPr>
      </p:pic>
      <p:sp>
        <p:nvSpPr>
          <p:cNvPr id="1461" name=""/>
          <p:cNvSpPr/>
          <p:nvPr/>
        </p:nvSpPr>
        <p:spPr>
          <a:xfrm>
            <a:off x="703440" y="6299280"/>
            <a:ext cx="104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2" name=""/>
          <p:cNvSpPr/>
          <p:nvPr/>
        </p:nvSpPr>
        <p:spPr>
          <a:xfrm>
            <a:off x="5338800" y="6438960"/>
            <a:ext cx="1041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3" name=""/>
          <p:cNvSpPr/>
          <p:nvPr/>
        </p:nvSpPr>
        <p:spPr>
          <a:xfrm>
            <a:off x="4983120" y="6184800"/>
            <a:ext cx="104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4" name=""/>
          <p:cNvSpPr/>
          <p:nvPr/>
        </p:nvSpPr>
        <p:spPr>
          <a:xfrm>
            <a:off x="8229600" y="2502000"/>
            <a:ext cx="4863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MC : Approximation for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5"/>
          <a:stretch/>
        </p:blipFill>
        <p:spPr>
          <a:xfrm>
            <a:off x="12268080" y="2649600"/>
            <a:ext cx="343080" cy="309600"/>
          </a:xfrm>
          <a:prstGeom prst="rect">
            <a:avLst/>
          </a:prstGeom>
          <a:ln w="0">
            <a:noFill/>
          </a:ln>
        </p:spPr>
      </p:pic>
      <p:pic>
        <p:nvPicPr>
          <p:cNvPr id="1466" name="" descr=""/>
          <p:cNvPicPr/>
          <p:nvPr/>
        </p:nvPicPr>
        <p:blipFill>
          <a:blip r:embed="rId6"/>
          <a:stretch/>
        </p:blipFill>
        <p:spPr>
          <a:xfrm>
            <a:off x="9258480" y="6083280"/>
            <a:ext cx="2603160" cy="58428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1054080" y="6515280"/>
            <a:ext cx="151128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8" name=""/>
          <p:cNvSpPr/>
          <p:nvPr/>
        </p:nvSpPr>
        <p:spPr>
          <a:xfrm>
            <a:off x="1056960" y="6629400"/>
            <a:ext cx="379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9" name=""/>
          <p:cNvSpPr/>
          <p:nvPr/>
        </p:nvSpPr>
        <p:spPr>
          <a:xfrm>
            <a:off x="5460840" y="7048440"/>
            <a:ext cx="20340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0" name=""/>
          <p:cNvSpPr/>
          <p:nvPr/>
        </p:nvSpPr>
        <p:spPr>
          <a:xfrm>
            <a:off x="5664240" y="7048440"/>
            <a:ext cx="127008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1" name=""/>
          <p:cNvSpPr/>
          <p:nvPr/>
        </p:nvSpPr>
        <p:spPr>
          <a:xfrm>
            <a:off x="5904360" y="7048440"/>
            <a:ext cx="336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2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473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476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Sequential Monte Carlo (SMC)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479" name="" descr=""/>
          <p:cNvPicPr/>
          <p:nvPr/>
        </p:nvPicPr>
        <p:blipFill>
          <a:blip r:embed="rId1"/>
          <a:stretch/>
        </p:blipFill>
        <p:spPr>
          <a:xfrm>
            <a:off x="2654280" y="4422600"/>
            <a:ext cx="5213520" cy="1119240"/>
          </a:xfrm>
          <a:prstGeom prst="rect">
            <a:avLst/>
          </a:prstGeom>
          <a:ln w="0">
            <a:noFill/>
          </a:ln>
        </p:spPr>
      </p:pic>
      <p:pic>
        <p:nvPicPr>
          <p:cNvPr id="1480" name="" descr=""/>
          <p:cNvPicPr/>
          <p:nvPr/>
        </p:nvPicPr>
        <p:blipFill>
          <a:blip r:embed="rId2"/>
          <a:stretch/>
        </p:blipFill>
        <p:spPr>
          <a:xfrm>
            <a:off x="958680" y="4282920"/>
            <a:ext cx="7366320" cy="3648240"/>
          </a:xfrm>
          <a:prstGeom prst="rect">
            <a:avLst/>
          </a:prstGeom>
          <a:ln w="0">
            <a:noFill/>
          </a:ln>
        </p:spPr>
      </p:pic>
      <p:pic>
        <p:nvPicPr>
          <p:cNvPr id="1481" name="" descr=""/>
          <p:cNvPicPr/>
          <p:nvPr/>
        </p:nvPicPr>
        <p:blipFill>
          <a:blip r:embed="rId3"/>
          <a:stretch/>
        </p:blipFill>
        <p:spPr>
          <a:xfrm>
            <a:off x="177840" y="6908760"/>
            <a:ext cx="469800" cy="330120"/>
          </a:xfrm>
          <a:prstGeom prst="rect">
            <a:avLst/>
          </a:prstGeom>
          <a:ln w="0">
            <a:noFill/>
          </a:ln>
        </p:spPr>
      </p:pic>
      <p:pic>
        <p:nvPicPr>
          <p:cNvPr id="1482" name="" descr=""/>
          <p:cNvPicPr/>
          <p:nvPr/>
        </p:nvPicPr>
        <p:blipFill>
          <a:blip r:embed="rId4"/>
          <a:stretch/>
        </p:blipFill>
        <p:spPr>
          <a:xfrm>
            <a:off x="8190000" y="3137040"/>
            <a:ext cx="4713120" cy="646416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8471880" y="5334120"/>
            <a:ext cx="397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.  Sample partial stat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4" name=""/>
          <p:cNvSpPr/>
          <p:nvPr/>
        </p:nvSpPr>
        <p:spPr>
          <a:xfrm>
            <a:off x="8376840" y="3632040"/>
            <a:ext cx="288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Initialize [...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5" name=""/>
          <p:cNvSpPr/>
          <p:nvPr/>
        </p:nvSpPr>
        <p:spPr>
          <a:xfrm>
            <a:off x="8349480" y="4508640"/>
            <a:ext cx="2178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Iterate :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6" name=""/>
          <p:cNvSpPr/>
          <p:nvPr/>
        </p:nvSpPr>
        <p:spPr>
          <a:xfrm>
            <a:off x="11468160" y="6095880"/>
            <a:ext cx="596880" cy="609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87" name="" descr=""/>
          <p:cNvPicPr/>
          <p:nvPr/>
        </p:nvPicPr>
        <p:blipFill>
          <a:blip r:embed="rId5"/>
          <a:stretch/>
        </p:blipFill>
        <p:spPr>
          <a:xfrm>
            <a:off x="177840" y="4952880"/>
            <a:ext cx="482400" cy="330480"/>
          </a:xfrm>
          <a:prstGeom prst="rect">
            <a:avLst/>
          </a:prstGeom>
          <a:ln w="0">
            <a:noFill/>
          </a:ln>
        </p:spPr>
      </p:pic>
      <p:sp>
        <p:nvSpPr>
          <p:cNvPr id="1488" name=""/>
          <p:cNvSpPr/>
          <p:nvPr/>
        </p:nvSpPr>
        <p:spPr>
          <a:xfrm>
            <a:off x="703440" y="6299280"/>
            <a:ext cx="104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9" name=""/>
          <p:cNvSpPr/>
          <p:nvPr/>
        </p:nvSpPr>
        <p:spPr>
          <a:xfrm>
            <a:off x="5338800" y="6438960"/>
            <a:ext cx="1041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0" name=""/>
          <p:cNvSpPr/>
          <p:nvPr/>
        </p:nvSpPr>
        <p:spPr>
          <a:xfrm>
            <a:off x="4983120" y="6184800"/>
            <a:ext cx="104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1" name=""/>
          <p:cNvSpPr/>
          <p:nvPr/>
        </p:nvSpPr>
        <p:spPr>
          <a:xfrm>
            <a:off x="2023920" y="4178160"/>
            <a:ext cx="139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’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2" name=""/>
          <p:cNvSpPr/>
          <p:nvPr/>
        </p:nvSpPr>
        <p:spPr>
          <a:xfrm>
            <a:off x="4762440" y="4178160"/>
            <a:ext cx="139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’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3" name=""/>
          <p:cNvSpPr/>
          <p:nvPr/>
        </p:nvSpPr>
        <p:spPr>
          <a:xfrm>
            <a:off x="6477120" y="4178160"/>
            <a:ext cx="139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’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4" name=""/>
          <p:cNvSpPr/>
          <p:nvPr/>
        </p:nvSpPr>
        <p:spPr>
          <a:xfrm>
            <a:off x="8229600" y="2502000"/>
            <a:ext cx="4863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MC : Approximation for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6"/>
          <a:stretch/>
        </p:blipFill>
        <p:spPr>
          <a:xfrm>
            <a:off x="12268080" y="2649600"/>
            <a:ext cx="343080" cy="30960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7"/>
          <a:stretch/>
        </p:blipFill>
        <p:spPr>
          <a:xfrm>
            <a:off x="9258480" y="6083280"/>
            <a:ext cx="2603160" cy="58428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1066680" y="6566040"/>
            <a:ext cx="151128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8" name=""/>
          <p:cNvSpPr/>
          <p:nvPr/>
        </p:nvSpPr>
        <p:spPr>
          <a:xfrm>
            <a:off x="1069920" y="6680160"/>
            <a:ext cx="379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9" name=""/>
          <p:cNvSpPr/>
          <p:nvPr/>
        </p:nvSpPr>
        <p:spPr>
          <a:xfrm>
            <a:off x="5473800" y="7099200"/>
            <a:ext cx="20304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0" name=""/>
          <p:cNvSpPr/>
          <p:nvPr/>
        </p:nvSpPr>
        <p:spPr>
          <a:xfrm>
            <a:off x="5715000" y="7099200"/>
            <a:ext cx="13460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1" name=""/>
          <p:cNvSpPr/>
          <p:nvPr/>
        </p:nvSpPr>
        <p:spPr>
          <a:xfrm>
            <a:off x="5916960" y="7099200"/>
            <a:ext cx="336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2" name=""/>
          <p:cNvSpPr/>
          <p:nvPr/>
        </p:nvSpPr>
        <p:spPr>
          <a:xfrm>
            <a:off x="2413080" y="4813200"/>
            <a:ext cx="1511280" cy="7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3" name=""/>
          <p:cNvSpPr/>
          <p:nvPr/>
        </p:nvSpPr>
        <p:spPr>
          <a:xfrm>
            <a:off x="2379240" y="4762440"/>
            <a:ext cx="70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4" name=""/>
          <p:cNvSpPr/>
          <p:nvPr/>
        </p:nvSpPr>
        <p:spPr>
          <a:xfrm>
            <a:off x="5092560" y="4775040"/>
            <a:ext cx="140976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5" name=""/>
          <p:cNvSpPr/>
          <p:nvPr/>
        </p:nvSpPr>
        <p:spPr>
          <a:xfrm>
            <a:off x="6832440" y="4775040"/>
            <a:ext cx="139716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6" name=""/>
          <p:cNvSpPr/>
          <p:nvPr/>
        </p:nvSpPr>
        <p:spPr>
          <a:xfrm>
            <a:off x="5132880" y="4737240"/>
            <a:ext cx="637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7" name=""/>
          <p:cNvSpPr/>
          <p:nvPr/>
        </p:nvSpPr>
        <p:spPr>
          <a:xfrm>
            <a:off x="6968520" y="4737240"/>
            <a:ext cx="51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8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509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51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1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Sequential Monte Carlo (SMC)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515" name="" descr=""/>
          <p:cNvPicPr/>
          <p:nvPr/>
        </p:nvPicPr>
        <p:blipFill>
          <a:blip r:embed="rId1"/>
          <a:stretch/>
        </p:blipFill>
        <p:spPr>
          <a:xfrm>
            <a:off x="1771560" y="4314960"/>
            <a:ext cx="6215040" cy="1333440"/>
          </a:xfrm>
          <a:prstGeom prst="rect">
            <a:avLst/>
          </a:prstGeom>
          <a:ln w="0">
            <a:noFill/>
          </a:ln>
        </p:spPr>
      </p:pic>
      <p:pic>
        <p:nvPicPr>
          <p:cNvPr id="1516" name="" descr=""/>
          <p:cNvPicPr/>
          <p:nvPr/>
        </p:nvPicPr>
        <p:blipFill>
          <a:blip r:embed="rId2"/>
          <a:stretch/>
        </p:blipFill>
        <p:spPr>
          <a:xfrm>
            <a:off x="8190000" y="3137040"/>
            <a:ext cx="4713120" cy="6464160"/>
          </a:xfrm>
          <a:prstGeom prst="rect">
            <a:avLst/>
          </a:prstGeom>
          <a:ln w="0">
            <a:noFill/>
          </a:ln>
        </p:spPr>
      </p:pic>
      <p:sp>
        <p:nvSpPr>
          <p:cNvPr id="1517" name=""/>
          <p:cNvSpPr/>
          <p:nvPr/>
        </p:nvSpPr>
        <p:spPr>
          <a:xfrm>
            <a:off x="8471880" y="5334120"/>
            <a:ext cx="397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.  Sample partial stat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8" name=""/>
          <p:cNvSpPr/>
          <p:nvPr/>
        </p:nvSpPr>
        <p:spPr>
          <a:xfrm>
            <a:off x="8470080" y="6667560"/>
            <a:ext cx="335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i. Compute weigh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19" name="" descr=""/>
          <p:cNvPicPr/>
          <p:nvPr/>
        </p:nvPicPr>
        <p:blipFill>
          <a:blip r:embed="rId3"/>
          <a:stretch/>
        </p:blipFill>
        <p:spPr>
          <a:xfrm>
            <a:off x="8510760" y="7472520"/>
            <a:ext cx="4071600" cy="1066680"/>
          </a:xfrm>
          <a:prstGeom prst="rect">
            <a:avLst/>
          </a:prstGeom>
          <a:ln w="0">
            <a:noFill/>
          </a:ln>
        </p:spPr>
      </p:pic>
      <p:sp>
        <p:nvSpPr>
          <p:cNvPr id="1520" name=""/>
          <p:cNvSpPr/>
          <p:nvPr/>
        </p:nvSpPr>
        <p:spPr>
          <a:xfrm>
            <a:off x="8376840" y="3632040"/>
            <a:ext cx="288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Initialize [...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1" name=""/>
          <p:cNvSpPr/>
          <p:nvPr/>
        </p:nvSpPr>
        <p:spPr>
          <a:xfrm>
            <a:off x="8349480" y="4508640"/>
            <a:ext cx="2178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Iterate :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2" name=""/>
          <p:cNvSpPr/>
          <p:nvPr/>
        </p:nvSpPr>
        <p:spPr>
          <a:xfrm>
            <a:off x="8469720" y="8648640"/>
            <a:ext cx="360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ii. Normalize weigh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3" name=""/>
          <p:cNvSpPr/>
          <p:nvPr/>
        </p:nvSpPr>
        <p:spPr>
          <a:xfrm>
            <a:off x="1773360" y="5857920"/>
            <a:ext cx="1180800" cy="172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4" name=""/>
          <p:cNvSpPr/>
          <p:nvPr/>
        </p:nvSpPr>
        <p:spPr>
          <a:xfrm>
            <a:off x="4748040" y="5867280"/>
            <a:ext cx="15084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5" name=""/>
          <p:cNvSpPr/>
          <p:nvPr/>
        </p:nvSpPr>
        <p:spPr>
          <a:xfrm>
            <a:off x="6967440" y="5867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6" name=""/>
          <p:cNvSpPr/>
          <p:nvPr/>
        </p:nvSpPr>
        <p:spPr>
          <a:xfrm>
            <a:off x="1566720" y="6134040"/>
            <a:ext cx="1600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w</a:t>
            </a:r>
            <a:r>
              <a:rPr b="0" lang="en-US" sz="37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7" name=""/>
          <p:cNvSpPr/>
          <p:nvPr/>
        </p:nvSpPr>
        <p:spPr>
          <a:xfrm>
            <a:off x="4932360" y="6134040"/>
            <a:ext cx="1600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w</a:t>
            </a:r>
            <a:r>
              <a:rPr b="0" lang="en-US" sz="37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8" name=""/>
          <p:cNvSpPr/>
          <p:nvPr/>
        </p:nvSpPr>
        <p:spPr>
          <a:xfrm>
            <a:off x="6786720" y="6146640"/>
            <a:ext cx="1600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w</a:t>
            </a:r>
            <a:r>
              <a:rPr b="0" lang="en-US" sz="37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29" name="" descr=""/>
          <p:cNvPicPr/>
          <p:nvPr/>
        </p:nvPicPr>
        <p:blipFill>
          <a:blip r:embed="rId4"/>
          <a:stretch/>
        </p:blipFill>
        <p:spPr>
          <a:xfrm>
            <a:off x="177840" y="4952880"/>
            <a:ext cx="482400" cy="33048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/>
          <p:nvPr/>
        </p:nvSpPr>
        <p:spPr>
          <a:xfrm>
            <a:off x="8229600" y="2502000"/>
            <a:ext cx="4863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MC : Approximation for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31" name="" descr=""/>
          <p:cNvPicPr/>
          <p:nvPr/>
        </p:nvPicPr>
        <p:blipFill>
          <a:blip r:embed="rId5"/>
          <a:stretch/>
        </p:blipFill>
        <p:spPr>
          <a:xfrm>
            <a:off x="12268080" y="2649600"/>
            <a:ext cx="343080" cy="309600"/>
          </a:xfrm>
          <a:prstGeom prst="rect">
            <a:avLst/>
          </a:prstGeom>
          <a:ln w="0">
            <a:noFill/>
          </a:ln>
        </p:spPr>
      </p:pic>
      <p:pic>
        <p:nvPicPr>
          <p:cNvPr id="1532" name="" descr=""/>
          <p:cNvPicPr/>
          <p:nvPr/>
        </p:nvPicPr>
        <p:blipFill>
          <a:blip r:embed="rId6"/>
          <a:stretch/>
        </p:blipFill>
        <p:spPr>
          <a:xfrm>
            <a:off x="9258480" y="6083280"/>
            <a:ext cx="2603160" cy="584280"/>
          </a:xfrm>
          <a:prstGeom prst="rect">
            <a:avLst/>
          </a:prstGeom>
          <a:ln w="0">
            <a:noFill/>
          </a:ln>
        </p:spPr>
      </p:pic>
      <p:sp>
        <p:nvSpPr>
          <p:cNvPr id="1533" name=""/>
          <p:cNvSpPr/>
          <p:nvPr/>
        </p:nvSpPr>
        <p:spPr>
          <a:xfrm>
            <a:off x="1790640" y="4788000"/>
            <a:ext cx="1003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4" name=""/>
          <p:cNvSpPr/>
          <p:nvPr/>
        </p:nvSpPr>
        <p:spPr>
          <a:xfrm>
            <a:off x="1871280" y="4762440"/>
            <a:ext cx="70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5" name=""/>
          <p:cNvSpPr/>
          <p:nvPr/>
        </p:nvSpPr>
        <p:spPr>
          <a:xfrm>
            <a:off x="4724280" y="4749840"/>
            <a:ext cx="140976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6" name=""/>
          <p:cNvSpPr/>
          <p:nvPr/>
        </p:nvSpPr>
        <p:spPr>
          <a:xfrm>
            <a:off x="7010280" y="4775040"/>
            <a:ext cx="978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7" name=""/>
          <p:cNvSpPr/>
          <p:nvPr/>
        </p:nvSpPr>
        <p:spPr>
          <a:xfrm>
            <a:off x="4751640" y="4737240"/>
            <a:ext cx="637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8" name=""/>
          <p:cNvSpPr/>
          <p:nvPr/>
        </p:nvSpPr>
        <p:spPr>
          <a:xfrm>
            <a:off x="7070400" y="4635360"/>
            <a:ext cx="51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695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69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-76320" y="-174600"/>
            <a:ext cx="13157280" cy="22082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e38a8"/>
                </a:solidFill>
                <a:latin typeface="Arial"/>
              </a:rPr>
              <a:t>Two concrete problems in computational biology that motivated this work</a:t>
            </a:r>
            <a:endParaRPr b="0" lang="en-US" sz="49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000520" y="2184480"/>
            <a:ext cx="9005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Multiple Sequence Alignment (MS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85920" y="345960"/>
            <a:ext cx="12218760" cy="6492960"/>
            <a:chOff x="385920" y="345960"/>
            <a:chExt cx="12218760" cy="6492960"/>
          </a:xfrm>
        </p:grpSpPr>
        <p:pic>
          <p:nvPicPr>
            <p:cNvPr id="703" name="" descr=""/>
            <p:cNvPicPr/>
            <p:nvPr/>
          </p:nvPicPr>
          <p:blipFill>
            <a:blip r:embed="rId1"/>
            <a:stretch/>
          </p:blipFill>
          <p:spPr>
            <a:xfrm>
              <a:off x="398520" y="345960"/>
              <a:ext cx="7351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2"/>
            <a:stretch/>
          </p:blipFill>
          <p:spPr>
            <a:xfrm>
              <a:off x="485640" y="2368440"/>
              <a:ext cx="55908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3"/>
            <a:stretch/>
          </p:blipFill>
          <p:spPr>
            <a:xfrm>
              <a:off x="385920" y="1413000"/>
              <a:ext cx="761760" cy="60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"/>
            <p:cNvGrpSpPr/>
            <p:nvPr/>
          </p:nvGrpSpPr>
          <p:grpSpPr>
            <a:xfrm>
              <a:off x="1766880" y="3759120"/>
              <a:ext cx="10654920" cy="2502000"/>
              <a:chOff x="1766880" y="3759120"/>
              <a:chExt cx="10654920" cy="2502000"/>
            </a:xfrm>
          </p:grpSpPr>
          <p:sp>
            <p:nvSpPr>
              <p:cNvPr id="707" name=""/>
              <p:cNvSpPr/>
              <p:nvPr/>
            </p:nvSpPr>
            <p:spPr>
              <a:xfrm>
                <a:off x="1766880" y="3759120"/>
                <a:ext cx="1065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UACUGAUCCUUAGCAUAUGCUUGCCAAAUUAAGCCAUGCAUCUAACGACGGCCGGUACAUGAAGAAUGGCUCAU</a:t>
                </a:r>
                <a:endParaRPr b="0" lang="en-US" sz="1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774800" y="4838760"/>
                <a:ext cx="1056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CCUGGUUGAUCCUGCCAGUAG.CAUAUGCUUGUCUCAAAGAUUAAGCCAUGCAUGUCUAAG</a:t>
                </a:r>
                <a:endParaRPr b="0" lang="en-US" sz="1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774800" y="5892840"/>
                <a:ext cx="1056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CCUGCCGGAGGCCAUUGCUAUUGGGAUUCGAUUUAGCCAUGCUAGUCGCACGAGUUUAGACUCGUGGCGAAUAGCU</a:t>
                </a:r>
                <a:endParaRPr b="0" lang="en-US" sz="1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387360" y="3308400"/>
              <a:ext cx="12217320" cy="3530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37240" y="4737240"/>
              <a:ext cx="241200" cy="520560"/>
            </a:xfrm>
            <a:prstGeom prst="rect">
              <a:avLst/>
            </a:pr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06200" y="0"/>
            <a:ext cx="9101160" cy="9421920"/>
            <a:chOff x="106200" y="0"/>
            <a:chExt cx="9101160" cy="9421920"/>
          </a:xfrm>
        </p:grpSpPr>
        <p:sp>
          <p:nvSpPr>
            <p:cNvPr id="713" name=""/>
            <p:cNvSpPr/>
            <p:nvPr/>
          </p:nvSpPr>
          <p:spPr>
            <a:xfrm>
              <a:off x="4140360" y="7299360"/>
              <a:ext cx="5067000" cy="212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14" name="" descr=""/>
            <p:cNvPicPr/>
            <p:nvPr/>
          </p:nvPicPr>
          <p:blipFill>
            <a:blip r:embed="rId4"/>
            <a:stretch/>
          </p:blipFill>
          <p:spPr>
            <a:xfrm>
              <a:off x="106200" y="0"/>
              <a:ext cx="4891320" cy="20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5" name=""/>
          <p:cNvSpPr/>
          <p:nvPr/>
        </p:nvSpPr>
        <p:spPr>
          <a:xfrm rot="5400000">
            <a:off x="6045120" y="6413400"/>
            <a:ext cx="1270080" cy="1270080"/>
          </a:xfrm>
          <a:prstGeom prst="rightArrow">
            <a:avLst>
              <a:gd name="adj1" fmla="val 32000"/>
              <a:gd name="adj2" fmla="val 44000"/>
            </a:avLst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9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540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54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Advantages of SMC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49080" y="2514600"/>
            <a:ext cx="1168776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Efficiency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gives a reasonable approximation very quickl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cale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rivial to parallelize across cores or clust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n be combined with MCM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548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50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55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65160" y="-174600"/>
            <a:ext cx="11074320" cy="22082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2e38a8"/>
                </a:solidFill>
                <a:latin typeface="Arial"/>
              </a:rPr>
              <a:t>Using SMC on combinatorial spaces: user’s guide</a:t>
            </a:r>
            <a:endParaRPr b="0" lang="en-US" sz="51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987840" y="2311560"/>
            <a:ext cx="108406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Idea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sample the combinatorial structure incrementall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Example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building phylogenetic trees incrementall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5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556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55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Sequential Monte Carlo (SMC)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>
            <a:off x="984240" y="6418440"/>
            <a:ext cx="5891400" cy="328284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2"/>
          <a:stretch/>
        </p:blipFill>
        <p:spPr>
          <a:xfrm>
            <a:off x="241200" y="8864640"/>
            <a:ext cx="355680" cy="38088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3"/>
          <a:stretch/>
        </p:blipFill>
        <p:spPr>
          <a:xfrm>
            <a:off x="177840" y="6908760"/>
            <a:ext cx="469800" cy="33012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/>
          <p:cNvPicPr/>
          <p:nvPr/>
        </p:nvPicPr>
        <p:blipFill>
          <a:blip r:embed="rId4"/>
          <a:stretch/>
        </p:blipFill>
        <p:spPr>
          <a:xfrm>
            <a:off x="8190000" y="3137040"/>
            <a:ext cx="4713120" cy="646416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8376840" y="3632040"/>
            <a:ext cx="288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Initialize [...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7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568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57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Sequential Monte Carlo (SMC)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574" name="" descr=""/>
          <p:cNvPicPr/>
          <p:nvPr/>
        </p:nvPicPr>
        <p:blipFill>
          <a:blip r:embed="rId1"/>
          <a:stretch/>
        </p:blipFill>
        <p:spPr>
          <a:xfrm>
            <a:off x="996840" y="6027840"/>
            <a:ext cx="6327720" cy="2023920"/>
          </a:xfrm>
          <a:prstGeom prst="rect">
            <a:avLst/>
          </a:prstGeom>
          <a:ln w="0">
            <a:noFill/>
          </a:ln>
        </p:spPr>
      </p:pic>
      <p:pic>
        <p:nvPicPr>
          <p:cNvPr id="1575" name="" descr=""/>
          <p:cNvPicPr/>
          <p:nvPr/>
        </p:nvPicPr>
        <p:blipFill>
          <a:blip r:embed="rId2"/>
          <a:stretch/>
        </p:blipFill>
        <p:spPr>
          <a:xfrm>
            <a:off x="177840" y="6908760"/>
            <a:ext cx="469800" cy="330120"/>
          </a:xfrm>
          <a:prstGeom prst="rect">
            <a:avLst/>
          </a:prstGeom>
          <a:ln w="0">
            <a:noFill/>
          </a:ln>
        </p:spPr>
      </p:pic>
      <p:pic>
        <p:nvPicPr>
          <p:cNvPr id="1576" name="" descr=""/>
          <p:cNvPicPr/>
          <p:nvPr/>
        </p:nvPicPr>
        <p:blipFill>
          <a:blip r:embed="rId3"/>
          <a:stretch/>
        </p:blipFill>
        <p:spPr>
          <a:xfrm>
            <a:off x="8190000" y="3137040"/>
            <a:ext cx="4713120" cy="6464160"/>
          </a:xfrm>
          <a:prstGeom prst="rect">
            <a:avLst/>
          </a:prstGeom>
          <a:ln w="0">
            <a:noFill/>
          </a:ln>
        </p:spPr>
      </p:pic>
      <p:sp>
        <p:nvSpPr>
          <p:cNvPr id="1577" name=""/>
          <p:cNvSpPr/>
          <p:nvPr/>
        </p:nvSpPr>
        <p:spPr>
          <a:xfrm>
            <a:off x="8376840" y="3632040"/>
            <a:ext cx="288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Initialize [...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8" name=""/>
          <p:cNvSpPr/>
          <p:nvPr/>
        </p:nvSpPr>
        <p:spPr>
          <a:xfrm>
            <a:off x="8471880" y="5334120"/>
            <a:ext cx="397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.  Sample partial stat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9" name=""/>
          <p:cNvSpPr/>
          <p:nvPr/>
        </p:nvSpPr>
        <p:spPr>
          <a:xfrm>
            <a:off x="8349480" y="4508640"/>
            <a:ext cx="2178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Iterate :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80" name="" descr=""/>
          <p:cNvPicPr/>
          <p:nvPr/>
        </p:nvPicPr>
        <p:blipFill>
          <a:blip r:embed="rId4"/>
          <a:stretch/>
        </p:blipFill>
        <p:spPr>
          <a:xfrm>
            <a:off x="177840" y="4952880"/>
            <a:ext cx="482400" cy="330480"/>
          </a:xfrm>
          <a:prstGeom prst="rect">
            <a:avLst/>
          </a:prstGeom>
          <a:ln w="0">
            <a:noFill/>
          </a:ln>
        </p:spPr>
      </p:pic>
      <p:sp>
        <p:nvSpPr>
          <p:cNvPr id="1581" name=""/>
          <p:cNvSpPr/>
          <p:nvPr/>
        </p:nvSpPr>
        <p:spPr>
          <a:xfrm>
            <a:off x="8229600" y="2502000"/>
            <a:ext cx="4863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MC : Approximation for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82" name="" descr=""/>
          <p:cNvPicPr/>
          <p:nvPr/>
        </p:nvPicPr>
        <p:blipFill>
          <a:blip r:embed="rId5"/>
          <a:stretch/>
        </p:blipFill>
        <p:spPr>
          <a:xfrm>
            <a:off x="12268080" y="2649600"/>
            <a:ext cx="343080" cy="30960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/>
          <p:cNvPicPr/>
          <p:nvPr/>
        </p:nvPicPr>
        <p:blipFill>
          <a:blip r:embed="rId6"/>
          <a:stretch/>
        </p:blipFill>
        <p:spPr>
          <a:xfrm>
            <a:off x="9258480" y="6083280"/>
            <a:ext cx="260316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4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585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58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Sequential Monte Carlo (SMC)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591" name="" descr=""/>
          <p:cNvPicPr/>
          <p:nvPr/>
        </p:nvPicPr>
        <p:blipFill>
          <a:blip r:embed="rId1"/>
          <a:stretch/>
        </p:blipFill>
        <p:spPr>
          <a:xfrm>
            <a:off x="1004760" y="6423120"/>
            <a:ext cx="6120000" cy="1501560"/>
          </a:xfrm>
          <a:prstGeom prst="rect">
            <a:avLst/>
          </a:prstGeom>
          <a:ln w="0">
            <a:noFill/>
          </a:ln>
        </p:spPr>
      </p:pic>
      <p:pic>
        <p:nvPicPr>
          <p:cNvPr id="1592" name="" descr=""/>
          <p:cNvPicPr/>
          <p:nvPr/>
        </p:nvPicPr>
        <p:blipFill>
          <a:blip r:embed="rId2"/>
          <a:stretch/>
        </p:blipFill>
        <p:spPr>
          <a:xfrm>
            <a:off x="177840" y="6908760"/>
            <a:ext cx="469800" cy="330120"/>
          </a:xfrm>
          <a:prstGeom prst="rect">
            <a:avLst/>
          </a:prstGeom>
          <a:ln w="0">
            <a:noFill/>
          </a:ln>
        </p:spPr>
      </p:pic>
      <p:pic>
        <p:nvPicPr>
          <p:cNvPr id="1593" name="" descr=""/>
          <p:cNvPicPr/>
          <p:nvPr/>
        </p:nvPicPr>
        <p:blipFill>
          <a:blip r:embed="rId3"/>
          <a:stretch/>
        </p:blipFill>
        <p:spPr>
          <a:xfrm>
            <a:off x="8190000" y="3137040"/>
            <a:ext cx="4713120" cy="6464160"/>
          </a:xfrm>
          <a:prstGeom prst="rect">
            <a:avLst/>
          </a:prstGeom>
          <a:ln w="0">
            <a:noFill/>
          </a:ln>
        </p:spPr>
      </p:pic>
      <p:sp>
        <p:nvSpPr>
          <p:cNvPr id="1594" name=""/>
          <p:cNvSpPr/>
          <p:nvPr/>
        </p:nvSpPr>
        <p:spPr>
          <a:xfrm>
            <a:off x="8471880" y="5334120"/>
            <a:ext cx="397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.  Sample partial stat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5" name=""/>
          <p:cNvSpPr/>
          <p:nvPr/>
        </p:nvSpPr>
        <p:spPr>
          <a:xfrm>
            <a:off x="8376840" y="3632040"/>
            <a:ext cx="288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Initialize [...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6" name=""/>
          <p:cNvSpPr/>
          <p:nvPr/>
        </p:nvSpPr>
        <p:spPr>
          <a:xfrm>
            <a:off x="8349480" y="4508640"/>
            <a:ext cx="2178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Iterate :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7" name=""/>
          <p:cNvSpPr/>
          <p:nvPr/>
        </p:nvSpPr>
        <p:spPr>
          <a:xfrm>
            <a:off x="10325160" y="6095880"/>
            <a:ext cx="711000" cy="609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98" name="" descr=""/>
          <p:cNvPicPr/>
          <p:nvPr/>
        </p:nvPicPr>
        <p:blipFill>
          <a:blip r:embed="rId4"/>
          <a:stretch/>
        </p:blipFill>
        <p:spPr>
          <a:xfrm>
            <a:off x="177840" y="4952880"/>
            <a:ext cx="482400" cy="330480"/>
          </a:xfrm>
          <a:prstGeom prst="rect">
            <a:avLst/>
          </a:prstGeom>
          <a:ln w="0">
            <a:noFill/>
          </a:ln>
        </p:spPr>
      </p:pic>
      <p:sp>
        <p:nvSpPr>
          <p:cNvPr id="1599" name=""/>
          <p:cNvSpPr/>
          <p:nvPr/>
        </p:nvSpPr>
        <p:spPr>
          <a:xfrm>
            <a:off x="703440" y="6299280"/>
            <a:ext cx="104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0" name=""/>
          <p:cNvSpPr/>
          <p:nvPr/>
        </p:nvSpPr>
        <p:spPr>
          <a:xfrm>
            <a:off x="5338800" y="6438960"/>
            <a:ext cx="1041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1" name=""/>
          <p:cNvSpPr/>
          <p:nvPr/>
        </p:nvSpPr>
        <p:spPr>
          <a:xfrm>
            <a:off x="4983120" y="6184800"/>
            <a:ext cx="104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2" name=""/>
          <p:cNvSpPr/>
          <p:nvPr/>
        </p:nvSpPr>
        <p:spPr>
          <a:xfrm>
            <a:off x="8229600" y="2502000"/>
            <a:ext cx="4863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MC : Approximation for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5"/>
          <a:stretch/>
        </p:blipFill>
        <p:spPr>
          <a:xfrm>
            <a:off x="12268080" y="2649600"/>
            <a:ext cx="343080" cy="309600"/>
          </a:xfrm>
          <a:prstGeom prst="rect">
            <a:avLst/>
          </a:prstGeom>
          <a:ln w="0">
            <a:noFill/>
          </a:ln>
        </p:spPr>
      </p:pic>
      <p:pic>
        <p:nvPicPr>
          <p:cNvPr id="1604" name="" descr=""/>
          <p:cNvPicPr/>
          <p:nvPr/>
        </p:nvPicPr>
        <p:blipFill>
          <a:blip r:embed="rId6"/>
          <a:stretch/>
        </p:blipFill>
        <p:spPr>
          <a:xfrm>
            <a:off x="9258480" y="6083280"/>
            <a:ext cx="260316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5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606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60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Sequential Monte Carlo (SMC)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2654280" y="4422600"/>
            <a:ext cx="5213520" cy="111924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2"/>
          <a:stretch/>
        </p:blipFill>
        <p:spPr>
          <a:xfrm>
            <a:off x="958680" y="4282920"/>
            <a:ext cx="7366320" cy="3648240"/>
          </a:xfrm>
          <a:prstGeom prst="rect">
            <a:avLst/>
          </a:prstGeom>
          <a:ln w="0">
            <a:noFill/>
          </a:ln>
        </p:spPr>
      </p:pic>
      <p:pic>
        <p:nvPicPr>
          <p:cNvPr id="1614" name="" descr=""/>
          <p:cNvPicPr/>
          <p:nvPr/>
        </p:nvPicPr>
        <p:blipFill>
          <a:blip r:embed="rId3"/>
          <a:stretch/>
        </p:blipFill>
        <p:spPr>
          <a:xfrm>
            <a:off x="177840" y="6908760"/>
            <a:ext cx="469800" cy="33012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4"/>
          <a:stretch/>
        </p:blipFill>
        <p:spPr>
          <a:xfrm>
            <a:off x="8190000" y="3137040"/>
            <a:ext cx="4713120" cy="6464160"/>
          </a:xfrm>
          <a:prstGeom prst="rect">
            <a:avLst/>
          </a:prstGeom>
          <a:ln w="0">
            <a:noFill/>
          </a:ln>
        </p:spPr>
      </p:pic>
      <p:sp>
        <p:nvSpPr>
          <p:cNvPr id="1616" name=""/>
          <p:cNvSpPr/>
          <p:nvPr/>
        </p:nvSpPr>
        <p:spPr>
          <a:xfrm>
            <a:off x="8471880" y="5334120"/>
            <a:ext cx="397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.  Sample partial stat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7" name=""/>
          <p:cNvSpPr/>
          <p:nvPr/>
        </p:nvSpPr>
        <p:spPr>
          <a:xfrm>
            <a:off x="8376840" y="3632040"/>
            <a:ext cx="288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Initialize [...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8" name=""/>
          <p:cNvSpPr/>
          <p:nvPr/>
        </p:nvSpPr>
        <p:spPr>
          <a:xfrm>
            <a:off x="8349480" y="4508640"/>
            <a:ext cx="2178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Iterate :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9" name=""/>
          <p:cNvSpPr/>
          <p:nvPr/>
        </p:nvSpPr>
        <p:spPr>
          <a:xfrm>
            <a:off x="11468160" y="6095880"/>
            <a:ext cx="596880" cy="609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20" name="" descr=""/>
          <p:cNvPicPr/>
          <p:nvPr/>
        </p:nvPicPr>
        <p:blipFill>
          <a:blip r:embed="rId5"/>
          <a:stretch/>
        </p:blipFill>
        <p:spPr>
          <a:xfrm>
            <a:off x="177840" y="4952880"/>
            <a:ext cx="482400" cy="330480"/>
          </a:xfrm>
          <a:prstGeom prst="rect">
            <a:avLst/>
          </a:prstGeom>
          <a:ln w="0">
            <a:noFill/>
          </a:ln>
        </p:spPr>
      </p:pic>
      <p:sp>
        <p:nvSpPr>
          <p:cNvPr id="1621" name=""/>
          <p:cNvSpPr/>
          <p:nvPr/>
        </p:nvSpPr>
        <p:spPr>
          <a:xfrm>
            <a:off x="703440" y="6299280"/>
            <a:ext cx="104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2" name=""/>
          <p:cNvSpPr/>
          <p:nvPr/>
        </p:nvSpPr>
        <p:spPr>
          <a:xfrm>
            <a:off x="5338800" y="6438960"/>
            <a:ext cx="1041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3" name=""/>
          <p:cNvSpPr/>
          <p:nvPr/>
        </p:nvSpPr>
        <p:spPr>
          <a:xfrm>
            <a:off x="4983120" y="6184800"/>
            <a:ext cx="104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4" name=""/>
          <p:cNvSpPr/>
          <p:nvPr/>
        </p:nvSpPr>
        <p:spPr>
          <a:xfrm>
            <a:off x="2023920" y="4178160"/>
            <a:ext cx="139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’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5" name=""/>
          <p:cNvSpPr/>
          <p:nvPr/>
        </p:nvSpPr>
        <p:spPr>
          <a:xfrm>
            <a:off x="4762440" y="4178160"/>
            <a:ext cx="139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’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6" name=""/>
          <p:cNvSpPr/>
          <p:nvPr/>
        </p:nvSpPr>
        <p:spPr>
          <a:xfrm>
            <a:off x="6477120" y="4178160"/>
            <a:ext cx="139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’</a:t>
            </a:r>
            <a:r>
              <a:rPr b="0" lang="en-US" sz="2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7" name=""/>
          <p:cNvSpPr/>
          <p:nvPr/>
        </p:nvSpPr>
        <p:spPr>
          <a:xfrm>
            <a:off x="8229600" y="2502000"/>
            <a:ext cx="4863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MC : Approximation for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28" name="" descr=""/>
          <p:cNvPicPr/>
          <p:nvPr/>
        </p:nvPicPr>
        <p:blipFill>
          <a:blip r:embed="rId6"/>
          <a:stretch/>
        </p:blipFill>
        <p:spPr>
          <a:xfrm>
            <a:off x="12268080" y="2649600"/>
            <a:ext cx="343080" cy="30960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7"/>
          <a:stretch/>
        </p:blipFill>
        <p:spPr>
          <a:xfrm>
            <a:off x="9258480" y="6083280"/>
            <a:ext cx="260316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0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631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63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Sequential Monte Carlo (SMC)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1771560" y="4314960"/>
            <a:ext cx="6215040" cy="1333440"/>
          </a:xfrm>
          <a:prstGeom prst="rect">
            <a:avLst/>
          </a:prstGeom>
          <a:ln w="0">
            <a:noFill/>
          </a:ln>
        </p:spPr>
      </p:pic>
      <p:pic>
        <p:nvPicPr>
          <p:cNvPr id="1638" name="" descr=""/>
          <p:cNvPicPr/>
          <p:nvPr/>
        </p:nvPicPr>
        <p:blipFill>
          <a:blip r:embed="rId2"/>
          <a:stretch/>
        </p:blipFill>
        <p:spPr>
          <a:xfrm>
            <a:off x="8190000" y="3137040"/>
            <a:ext cx="4713120" cy="646416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/>
          <p:nvPr/>
        </p:nvSpPr>
        <p:spPr>
          <a:xfrm>
            <a:off x="8471880" y="5334120"/>
            <a:ext cx="397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.  Sample partial stat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0" name=""/>
          <p:cNvSpPr/>
          <p:nvPr/>
        </p:nvSpPr>
        <p:spPr>
          <a:xfrm>
            <a:off x="8470080" y="6667560"/>
            <a:ext cx="335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i. Compute weigh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41" name="" descr=""/>
          <p:cNvPicPr/>
          <p:nvPr/>
        </p:nvPicPr>
        <p:blipFill>
          <a:blip r:embed="rId3"/>
          <a:stretch/>
        </p:blipFill>
        <p:spPr>
          <a:xfrm>
            <a:off x="8510760" y="7472520"/>
            <a:ext cx="4071600" cy="1066680"/>
          </a:xfrm>
          <a:prstGeom prst="rect">
            <a:avLst/>
          </a:prstGeom>
          <a:ln w="0">
            <a:noFill/>
          </a:ln>
        </p:spPr>
      </p:pic>
      <p:sp>
        <p:nvSpPr>
          <p:cNvPr id="1642" name=""/>
          <p:cNvSpPr/>
          <p:nvPr/>
        </p:nvSpPr>
        <p:spPr>
          <a:xfrm>
            <a:off x="8376840" y="3632040"/>
            <a:ext cx="288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Initialize [...]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3" name=""/>
          <p:cNvSpPr/>
          <p:nvPr/>
        </p:nvSpPr>
        <p:spPr>
          <a:xfrm>
            <a:off x="8349480" y="4508640"/>
            <a:ext cx="2178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Iterate :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4" name=""/>
          <p:cNvSpPr/>
          <p:nvPr/>
        </p:nvSpPr>
        <p:spPr>
          <a:xfrm>
            <a:off x="8469720" y="8648640"/>
            <a:ext cx="360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ii. Normalize weigh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5" name=""/>
          <p:cNvSpPr/>
          <p:nvPr/>
        </p:nvSpPr>
        <p:spPr>
          <a:xfrm>
            <a:off x="1773360" y="5857920"/>
            <a:ext cx="1180800" cy="172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6" name=""/>
          <p:cNvSpPr/>
          <p:nvPr/>
        </p:nvSpPr>
        <p:spPr>
          <a:xfrm>
            <a:off x="4748040" y="5867280"/>
            <a:ext cx="15084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7" name=""/>
          <p:cNvSpPr/>
          <p:nvPr/>
        </p:nvSpPr>
        <p:spPr>
          <a:xfrm>
            <a:off x="6967440" y="5867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8" name=""/>
          <p:cNvSpPr/>
          <p:nvPr/>
        </p:nvSpPr>
        <p:spPr>
          <a:xfrm>
            <a:off x="1566720" y="6134040"/>
            <a:ext cx="1600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w</a:t>
            </a:r>
            <a:r>
              <a:rPr b="0" lang="en-US" sz="37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9" name=""/>
          <p:cNvSpPr/>
          <p:nvPr/>
        </p:nvSpPr>
        <p:spPr>
          <a:xfrm>
            <a:off x="4932360" y="6134040"/>
            <a:ext cx="1600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w</a:t>
            </a:r>
            <a:r>
              <a:rPr b="0" lang="en-US" sz="37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0" name=""/>
          <p:cNvSpPr/>
          <p:nvPr/>
        </p:nvSpPr>
        <p:spPr>
          <a:xfrm>
            <a:off x="6786720" y="6146640"/>
            <a:ext cx="1600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w</a:t>
            </a:r>
            <a:r>
              <a:rPr b="0" lang="en-US" sz="37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51" name="" descr=""/>
          <p:cNvPicPr/>
          <p:nvPr/>
        </p:nvPicPr>
        <p:blipFill>
          <a:blip r:embed="rId4"/>
          <a:stretch/>
        </p:blipFill>
        <p:spPr>
          <a:xfrm>
            <a:off x="177840" y="4952880"/>
            <a:ext cx="482400" cy="330480"/>
          </a:xfrm>
          <a:prstGeom prst="rect">
            <a:avLst/>
          </a:prstGeom>
          <a:ln w="0">
            <a:noFill/>
          </a:ln>
        </p:spPr>
      </p:pic>
      <p:sp>
        <p:nvSpPr>
          <p:cNvPr id="1652" name=""/>
          <p:cNvSpPr/>
          <p:nvPr/>
        </p:nvSpPr>
        <p:spPr>
          <a:xfrm>
            <a:off x="8229600" y="2502000"/>
            <a:ext cx="4863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MC : Approximation for 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5"/>
          <a:stretch/>
        </p:blipFill>
        <p:spPr>
          <a:xfrm>
            <a:off x="12268080" y="2649600"/>
            <a:ext cx="343080" cy="309600"/>
          </a:xfrm>
          <a:prstGeom prst="rect">
            <a:avLst/>
          </a:prstGeom>
          <a:ln w="0">
            <a:noFill/>
          </a:ln>
        </p:spPr>
      </p:pic>
      <p:pic>
        <p:nvPicPr>
          <p:cNvPr id="1654" name="" descr=""/>
          <p:cNvPicPr/>
          <p:nvPr/>
        </p:nvPicPr>
        <p:blipFill>
          <a:blip r:embed="rId6"/>
          <a:stretch/>
        </p:blipFill>
        <p:spPr>
          <a:xfrm>
            <a:off x="9258480" y="6083280"/>
            <a:ext cx="260316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656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65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6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Is that it?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130400" y="2311560"/>
            <a:ext cx="106552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re is one issue that arise here (and was not a problem in standard SMC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magine all possible particles that can be proposed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664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667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68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396800" y="-12708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e38a8"/>
                </a:solidFill>
                <a:latin typeface="Arial Italic"/>
                <a:ea typeface="Arial Italic"/>
              </a:rPr>
              <a:t>Proposal poset</a:t>
            </a:r>
            <a:r>
              <a:rPr b="0" lang="en-US" sz="4900" spc="-1" strike="noStrike">
                <a:solidFill>
                  <a:srgbClr val="2e38a8"/>
                </a:solidFill>
                <a:latin typeface="Arial"/>
              </a:rPr>
              <a:t> for </a:t>
            </a:r>
            <a:br>
              <a:rPr sz="4900"/>
            </a:br>
            <a:r>
              <a:rPr b="0" lang="en-US" sz="4900" spc="-1" strike="noStrike">
                <a:solidFill>
                  <a:srgbClr val="2e38a8"/>
                </a:solidFill>
                <a:latin typeface="Arial"/>
              </a:rPr>
              <a:t>combinatorial spaces</a:t>
            </a:r>
            <a:endParaRPr b="0" lang="en-US" sz="4900" spc="-1" strike="noStrike">
              <a:solidFill>
                <a:srgbClr val="2e38a8"/>
              </a:solidFill>
              <a:latin typeface="Arial"/>
            </a:endParaRPr>
          </a:p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pic>
        <p:nvPicPr>
          <p:cNvPr id="1670" name="" descr=""/>
          <p:cNvPicPr/>
          <p:nvPr/>
        </p:nvPicPr>
        <p:blipFill>
          <a:blip r:embed="rId1"/>
          <a:stretch/>
        </p:blipFill>
        <p:spPr>
          <a:xfrm>
            <a:off x="3735360" y="2962440"/>
            <a:ext cx="4726080" cy="5829120"/>
          </a:xfrm>
          <a:prstGeom prst="rect">
            <a:avLst/>
          </a:prstGeom>
          <a:ln w="0">
            <a:noFill/>
          </a:ln>
        </p:spPr>
      </p:pic>
      <p:sp>
        <p:nvSpPr>
          <p:cNvPr id="1671" name=""/>
          <p:cNvSpPr/>
          <p:nvPr/>
        </p:nvSpPr>
        <p:spPr>
          <a:xfrm>
            <a:off x="3454560" y="7315200"/>
            <a:ext cx="1650960" cy="736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2" name=""/>
          <p:cNvSpPr/>
          <p:nvPr/>
        </p:nvSpPr>
        <p:spPr>
          <a:xfrm>
            <a:off x="3479760" y="7645320"/>
            <a:ext cx="1625760" cy="584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3" name=""/>
          <p:cNvSpPr/>
          <p:nvPr/>
        </p:nvSpPr>
        <p:spPr>
          <a:xfrm>
            <a:off x="3581280" y="7924680"/>
            <a:ext cx="1524240" cy="406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6400800" y="7899480"/>
            <a:ext cx="182880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6400800" y="7709040"/>
            <a:ext cx="182880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6400800" y="7607160"/>
            <a:ext cx="182880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8432640" y="6197400"/>
            <a:ext cx="533520" cy="431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8431920" y="6044760"/>
            <a:ext cx="381240" cy="392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8432640" y="5918040"/>
            <a:ext cx="330480" cy="417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8432640" y="4800240"/>
            <a:ext cx="533520" cy="431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8431920" y="4647960"/>
            <a:ext cx="381240" cy="392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8432640" y="4521240"/>
            <a:ext cx="330480" cy="417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8432640" y="3276360"/>
            <a:ext cx="533520" cy="431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8431920" y="3124080"/>
            <a:ext cx="381240" cy="393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8432640" y="2997000"/>
            <a:ext cx="330480" cy="417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6" name=""/>
          <p:cNvSpPr/>
          <p:nvPr/>
        </p:nvSpPr>
        <p:spPr>
          <a:xfrm>
            <a:off x="3149640" y="5994360"/>
            <a:ext cx="584280" cy="36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7" name=""/>
          <p:cNvSpPr/>
          <p:nvPr/>
        </p:nvSpPr>
        <p:spPr>
          <a:xfrm>
            <a:off x="3073320" y="6172200"/>
            <a:ext cx="660600" cy="36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8" name=""/>
          <p:cNvSpPr/>
          <p:nvPr/>
        </p:nvSpPr>
        <p:spPr>
          <a:xfrm>
            <a:off x="3048120" y="6375240"/>
            <a:ext cx="685800" cy="266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9" name=""/>
          <p:cNvSpPr/>
          <p:nvPr/>
        </p:nvSpPr>
        <p:spPr>
          <a:xfrm>
            <a:off x="4216320" y="4406760"/>
            <a:ext cx="584280" cy="36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0" name=""/>
          <p:cNvSpPr/>
          <p:nvPr/>
        </p:nvSpPr>
        <p:spPr>
          <a:xfrm>
            <a:off x="4140360" y="4584600"/>
            <a:ext cx="660240" cy="36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1" name=""/>
          <p:cNvSpPr/>
          <p:nvPr/>
        </p:nvSpPr>
        <p:spPr>
          <a:xfrm>
            <a:off x="4114800" y="4788000"/>
            <a:ext cx="685800" cy="266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2" name=""/>
          <p:cNvSpPr/>
          <p:nvPr/>
        </p:nvSpPr>
        <p:spPr>
          <a:xfrm>
            <a:off x="4203720" y="2781360"/>
            <a:ext cx="584280" cy="36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3" name=""/>
          <p:cNvSpPr/>
          <p:nvPr/>
        </p:nvSpPr>
        <p:spPr>
          <a:xfrm>
            <a:off x="4127400" y="2959200"/>
            <a:ext cx="660600" cy="36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4" name=""/>
          <p:cNvSpPr/>
          <p:nvPr/>
        </p:nvSpPr>
        <p:spPr>
          <a:xfrm>
            <a:off x="4102200" y="3162240"/>
            <a:ext cx="685800" cy="266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5" name=""/>
          <p:cNvSpPr/>
          <p:nvPr/>
        </p:nvSpPr>
        <p:spPr>
          <a:xfrm>
            <a:off x="6553080" y="4457880"/>
            <a:ext cx="584280" cy="36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6" name=""/>
          <p:cNvSpPr/>
          <p:nvPr/>
        </p:nvSpPr>
        <p:spPr>
          <a:xfrm>
            <a:off x="6477120" y="4635360"/>
            <a:ext cx="660240" cy="36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7" name=""/>
          <p:cNvSpPr/>
          <p:nvPr/>
        </p:nvSpPr>
        <p:spPr>
          <a:xfrm>
            <a:off x="6451560" y="4838760"/>
            <a:ext cx="685800" cy="266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8" name=""/>
          <p:cNvSpPr/>
          <p:nvPr/>
        </p:nvSpPr>
        <p:spPr>
          <a:xfrm>
            <a:off x="6540480" y="2832120"/>
            <a:ext cx="584280" cy="36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9" name=""/>
          <p:cNvSpPr/>
          <p:nvPr/>
        </p:nvSpPr>
        <p:spPr>
          <a:xfrm>
            <a:off x="6464160" y="3009960"/>
            <a:ext cx="660600" cy="36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0" name=""/>
          <p:cNvSpPr/>
          <p:nvPr/>
        </p:nvSpPr>
        <p:spPr>
          <a:xfrm>
            <a:off x="6438960" y="3213000"/>
            <a:ext cx="685800" cy="266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6095160" y="5054760"/>
            <a:ext cx="304920" cy="241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6095160" y="4876920"/>
            <a:ext cx="228600" cy="226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6095880" y="4647960"/>
            <a:ext cx="177840" cy="353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6095880" y="3340080"/>
            <a:ext cx="533520" cy="432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6095880" y="3327120"/>
            <a:ext cx="279360" cy="25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6095880" y="3174480"/>
            <a:ext cx="15264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6400800" y="5689080"/>
            <a:ext cx="254160" cy="481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6235560" y="5689080"/>
            <a:ext cx="254160" cy="481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1244520" y="2622600"/>
            <a:ext cx="11061720" cy="1828800"/>
            <a:chOff x="1244520" y="2622600"/>
            <a:chExt cx="11061720" cy="1828800"/>
          </a:xfrm>
        </p:grpSpPr>
        <p:sp>
          <p:nvSpPr>
            <p:cNvPr id="1710" name=""/>
            <p:cNvSpPr/>
            <p:nvPr/>
          </p:nvSpPr>
          <p:spPr>
            <a:xfrm>
              <a:off x="1244520" y="2622600"/>
              <a:ext cx="2705040" cy="18032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wo ways of building 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t</a:t>
              </a:r>
              <a:r>
                <a:rPr b="0" lang="en-US" sz="35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5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9601200" y="2648160"/>
              <a:ext cx="2705040" cy="18032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One way of building 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t</a:t>
              </a:r>
              <a:r>
                <a:rPr b="0" lang="en-US" sz="3500" spc="-1" strike="noStrike" baseline="-6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12" name=""/>
          <p:cNvSpPr/>
          <p:nvPr/>
        </p:nvSpPr>
        <p:spPr>
          <a:xfrm>
            <a:off x="8940960" y="6419880"/>
            <a:ext cx="3784320" cy="28447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poset/DAG where there is an edge </a:t>
            </a:r>
            <a:r>
              <a:rPr b="0" lang="en-US" sz="38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→y</a:t>
            </a:r>
            <a:r>
              <a:rPr b="0" lang="en-US" sz="3800" spc="-1" strike="noStrike">
                <a:solidFill>
                  <a:srgbClr val="000000"/>
                </a:solidFill>
                <a:latin typeface="Arial Narrow"/>
                <a:ea typeface="Arial Narrow"/>
              </a:rPr>
              <a:t> iff </a:t>
            </a:r>
            <a:r>
              <a:rPr b="0" lang="en-US" sz="38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y</a:t>
            </a:r>
            <a:r>
              <a:rPr b="0" lang="en-US" sz="3800" spc="-1" strike="noStrike">
                <a:solidFill>
                  <a:srgbClr val="000000"/>
                </a:solidFill>
                <a:latin typeface="Arial Narrow"/>
                <a:ea typeface="Arial Narrow"/>
              </a:rPr>
              <a:t> can be proposed from </a:t>
            </a:r>
            <a:r>
              <a:rPr b="0" lang="en-US" sz="38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x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3" name=""/>
          <p:cNvSpPr/>
          <p:nvPr/>
        </p:nvSpPr>
        <p:spPr>
          <a:xfrm>
            <a:off x="4865040" y="2870280"/>
            <a:ext cx="402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</a:t>
            </a:r>
            <a:r>
              <a:rPr b="0" lang="en-US" sz="35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4" name=""/>
          <p:cNvSpPr/>
          <p:nvPr/>
        </p:nvSpPr>
        <p:spPr>
          <a:xfrm>
            <a:off x="7227360" y="2870280"/>
            <a:ext cx="402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</a:t>
            </a:r>
            <a:r>
              <a:rPr b="0" lang="en-US" sz="35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5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716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71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2e38a8"/>
                </a:solidFill>
                <a:latin typeface="Arial"/>
              </a:rPr>
              <a:t>Proposal poset for standard SMC</a:t>
            </a:r>
            <a:endParaRPr b="0" lang="en-US" sz="51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6332400" y="8001000"/>
            <a:ext cx="33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ε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3" name=""/>
          <p:cNvSpPr/>
          <p:nvPr/>
        </p:nvSpPr>
        <p:spPr>
          <a:xfrm>
            <a:off x="5003640" y="6883560"/>
            <a:ext cx="1143000" cy="13204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4" name=""/>
          <p:cNvSpPr/>
          <p:nvPr/>
        </p:nvSpPr>
        <p:spPr>
          <a:xfrm>
            <a:off x="6477120" y="6780240"/>
            <a:ext cx="0" cy="14238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6718320" y="6908760"/>
            <a:ext cx="1155600" cy="139716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6" name=""/>
          <p:cNvSpPr/>
          <p:nvPr/>
        </p:nvSpPr>
        <p:spPr>
          <a:xfrm>
            <a:off x="4660560" y="6019920"/>
            <a:ext cx="379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7" name=""/>
          <p:cNvSpPr/>
          <p:nvPr/>
        </p:nvSpPr>
        <p:spPr>
          <a:xfrm>
            <a:off x="6271920" y="6019920"/>
            <a:ext cx="408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8" name=""/>
          <p:cNvSpPr/>
          <p:nvPr/>
        </p:nvSpPr>
        <p:spPr>
          <a:xfrm>
            <a:off x="7945920" y="6019920"/>
            <a:ext cx="336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9" name=""/>
          <p:cNvSpPr/>
          <p:nvPr/>
        </p:nvSpPr>
        <p:spPr>
          <a:xfrm>
            <a:off x="3365640" y="4584600"/>
            <a:ext cx="1143000" cy="13208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0" name=""/>
          <p:cNvSpPr/>
          <p:nvPr/>
        </p:nvSpPr>
        <p:spPr>
          <a:xfrm>
            <a:off x="4838760" y="4481640"/>
            <a:ext cx="0" cy="14238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1" name=""/>
          <p:cNvSpPr/>
          <p:nvPr/>
        </p:nvSpPr>
        <p:spPr>
          <a:xfrm>
            <a:off x="2858760" y="3720960"/>
            <a:ext cx="70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2" name=""/>
          <p:cNvSpPr/>
          <p:nvPr/>
        </p:nvSpPr>
        <p:spPr>
          <a:xfrm>
            <a:off x="4520160" y="3720960"/>
            <a:ext cx="635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3" name=""/>
          <p:cNvSpPr/>
          <p:nvPr/>
        </p:nvSpPr>
        <p:spPr>
          <a:xfrm>
            <a:off x="8204040" y="4481640"/>
            <a:ext cx="0" cy="14238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8445600" y="4610160"/>
            <a:ext cx="1155600" cy="13968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5" name=""/>
          <p:cNvSpPr/>
          <p:nvPr/>
        </p:nvSpPr>
        <p:spPr>
          <a:xfrm>
            <a:off x="7885440" y="3720960"/>
            <a:ext cx="635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6" name=""/>
          <p:cNvSpPr/>
          <p:nvPr/>
        </p:nvSpPr>
        <p:spPr>
          <a:xfrm>
            <a:off x="9509400" y="3720960"/>
            <a:ext cx="664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7" name=""/>
          <p:cNvSpPr/>
          <p:nvPr/>
        </p:nvSpPr>
        <p:spPr>
          <a:xfrm>
            <a:off x="1727280" y="4495680"/>
            <a:ext cx="2743200" cy="16891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8724960" y="4749840"/>
            <a:ext cx="2171520" cy="12826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9" name=""/>
          <p:cNvSpPr/>
          <p:nvPr/>
        </p:nvSpPr>
        <p:spPr>
          <a:xfrm>
            <a:off x="6477120" y="4481640"/>
            <a:ext cx="0" cy="14238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0" name=""/>
          <p:cNvSpPr/>
          <p:nvPr/>
        </p:nvSpPr>
        <p:spPr>
          <a:xfrm>
            <a:off x="5765760" y="4444920"/>
            <a:ext cx="482760" cy="1600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6679800" y="4495680"/>
            <a:ext cx="762120" cy="1549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2" name=""/>
          <p:cNvSpPr/>
          <p:nvPr/>
        </p:nvSpPr>
        <p:spPr>
          <a:xfrm>
            <a:off x="1145880" y="3720960"/>
            <a:ext cx="678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a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3" name=""/>
          <p:cNvSpPr/>
          <p:nvPr/>
        </p:nvSpPr>
        <p:spPr>
          <a:xfrm>
            <a:off x="5233680" y="3720960"/>
            <a:ext cx="70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b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4" name=""/>
          <p:cNvSpPr/>
          <p:nvPr/>
        </p:nvSpPr>
        <p:spPr>
          <a:xfrm>
            <a:off x="6133680" y="3683160"/>
            <a:ext cx="736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b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5" name=""/>
          <p:cNvSpPr/>
          <p:nvPr/>
        </p:nvSpPr>
        <p:spPr>
          <a:xfrm>
            <a:off x="7096320" y="3683160"/>
            <a:ext cx="664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b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6" name=""/>
          <p:cNvSpPr/>
          <p:nvPr/>
        </p:nvSpPr>
        <p:spPr>
          <a:xfrm>
            <a:off x="10967400" y="3720960"/>
            <a:ext cx="592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717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72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-76320" y="-174600"/>
            <a:ext cx="13157280" cy="22082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e38a8"/>
                </a:solidFill>
                <a:latin typeface="Arial"/>
              </a:rPr>
              <a:t>Two concrete problems in computational biology that motivated this work</a:t>
            </a:r>
            <a:endParaRPr b="0" lang="en-US" sz="49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23640" y="2146320"/>
            <a:ext cx="6955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Phylogenetic tree inferenc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0" y="114480"/>
            <a:ext cx="9539280" cy="9283320"/>
            <a:chOff x="0" y="114480"/>
            <a:chExt cx="9539280" cy="9283320"/>
          </a:xfrm>
        </p:grpSpPr>
        <p:pic>
          <p:nvPicPr>
            <p:cNvPr id="725" name="" descr=""/>
            <p:cNvPicPr/>
            <p:nvPr/>
          </p:nvPicPr>
          <p:blipFill>
            <a:blip r:embed="rId1"/>
            <a:stretch/>
          </p:blipFill>
          <p:spPr>
            <a:xfrm>
              <a:off x="3262320" y="220680"/>
              <a:ext cx="2494080" cy="21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2"/>
            <a:stretch/>
          </p:blipFill>
          <p:spPr>
            <a:xfrm>
              <a:off x="0" y="114480"/>
              <a:ext cx="244620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129360" y="7632720"/>
              <a:ext cx="471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Arial Narrow"/>
                  <a:ea typeface="Arial Narrow"/>
                </a:rPr>
                <a:t>or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68600" y="6921360"/>
              <a:ext cx="6070680" cy="2476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886880" y="883908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58800" y="8800920"/>
              <a:ext cx="237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 Italic"/>
                  <a:ea typeface="Times New Roman Italic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787320" y="3502080"/>
            <a:ext cx="733680" cy="5713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4"/>
          <a:stretch/>
        </p:blipFill>
        <p:spPr>
          <a:xfrm>
            <a:off x="873000" y="5524560"/>
            <a:ext cx="559080" cy="79992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773280" y="4568760"/>
            <a:ext cx="761760" cy="600120"/>
          </a:xfrm>
          <a:prstGeom prst="rect">
            <a:avLst/>
          </a:prstGeom>
          <a:ln w="0">
            <a:noFill/>
          </a:ln>
        </p:spPr>
      </p:pic>
      <p:grpSp>
        <p:nvGrpSpPr>
          <p:cNvPr id="734" name=""/>
          <p:cNvGrpSpPr/>
          <p:nvPr/>
        </p:nvGrpSpPr>
        <p:grpSpPr>
          <a:xfrm>
            <a:off x="1766880" y="3606840"/>
            <a:ext cx="10654920" cy="2502000"/>
            <a:chOff x="1766880" y="3606840"/>
            <a:chExt cx="10654920" cy="2502000"/>
          </a:xfrm>
        </p:grpSpPr>
        <p:sp>
          <p:nvSpPr>
            <p:cNvPr id="735" name=""/>
            <p:cNvSpPr/>
            <p:nvPr/>
          </p:nvSpPr>
          <p:spPr>
            <a:xfrm>
              <a:off x="1766880" y="3606840"/>
              <a:ext cx="10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UACUGAUCCUUAGCAUAUGCUUGCCAAAUUAAGCCAUGCAUCUAACGACGGCCGGUACAUGAAGAAUGGCUCAU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74800" y="4686480"/>
              <a:ext cx="1056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CUGGUUGAUCCUGCCAGUAG.CAUAUGCUUGUCUCAAAGAUUAAGCCAUGCAUGUCUAAG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74800" y="5740560"/>
              <a:ext cx="1056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CUGCCGGAGGCCAUUGCUAUUGGGAUUCGAUUUAGCCAUGCUAGUCGCACGAGUUUAGACUCGUGGCGAAUAGCU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87360" y="3156120"/>
            <a:ext cx="12217320" cy="3530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"/>
          <p:cNvSpPr/>
          <p:nvPr/>
        </p:nvSpPr>
        <p:spPr>
          <a:xfrm rot="5400000">
            <a:off x="6045120" y="6413400"/>
            <a:ext cx="1270080" cy="1270080"/>
          </a:xfrm>
          <a:prstGeom prst="rightArrow">
            <a:avLst>
              <a:gd name="adj1" fmla="val 32000"/>
              <a:gd name="adj2" fmla="val 44000"/>
            </a:avLst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748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75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5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Correcting over-counting poset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996840" y="2184480"/>
            <a:ext cx="119379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imply define a </a:t>
            </a:r>
            <a:r>
              <a:rPr b="0" lang="en-US" sz="4200" spc="-1" strike="noStrike">
                <a:solidFill>
                  <a:srgbClr val="000000"/>
                </a:solidFill>
                <a:latin typeface="Arial Narrow Italic"/>
                <a:ea typeface="Arial Narrow Italic"/>
              </a:rPr>
              <a:t>backward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posal density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q</a:t>
            </a:r>
            <a:r>
              <a:rPr b="0" lang="en-US" sz="4200" spc="-1" strike="noStrike" baseline="-6000">
                <a:solidFill>
                  <a:srgbClr val="000000"/>
                </a:solidFill>
                <a:latin typeface="Times New Roman Italic"/>
                <a:ea typeface="Times New Roman Italic"/>
              </a:rPr>
              <a:t>-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with support on the reversed proposal poset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55" name="" descr=""/>
          <p:cNvPicPr/>
          <p:nvPr/>
        </p:nvPicPr>
        <p:blipFill>
          <a:blip r:embed="rId1"/>
          <a:stretch/>
        </p:blipFill>
        <p:spPr>
          <a:xfrm>
            <a:off x="2232000" y="3759120"/>
            <a:ext cx="4386240" cy="5410440"/>
          </a:xfrm>
          <a:prstGeom prst="rect">
            <a:avLst/>
          </a:prstGeom>
          <a:ln w="0">
            <a:noFill/>
          </a:ln>
        </p:spPr>
      </p:pic>
      <p:pic>
        <p:nvPicPr>
          <p:cNvPr id="1756" name="" descr=""/>
          <p:cNvPicPr/>
          <p:nvPr/>
        </p:nvPicPr>
        <p:blipFill>
          <a:blip r:embed="rId2"/>
          <a:stretch/>
        </p:blipFill>
        <p:spPr>
          <a:xfrm>
            <a:off x="5624640" y="7721640"/>
            <a:ext cx="6681600" cy="1371600"/>
          </a:xfrm>
          <a:prstGeom prst="rect">
            <a:avLst/>
          </a:prstGeom>
          <a:ln w="0">
            <a:noFill/>
          </a:ln>
        </p:spPr>
      </p:pic>
      <p:sp>
        <p:nvSpPr>
          <p:cNvPr id="1757" name=""/>
          <p:cNvSpPr/>
          <p:nvPr/>
        </p:nvSpPr>
        <p:spPr>
          <a:xfrm>
            <a:off x="6985080" y="5931000"/>
            <a:ext cx="5410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d use it to correct the weights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8" name="" descr=""/>
          <p:cNvPicPr/>
          <p:nvPr/>
        </p:nvPicPr>
        <p:blipFill>
          <a:blip r:embed="rId1"/>
          <a:stretch/>
        </p:blipFill>
        <p:spPr>
          <a:xfrm>
            <a:off x="1547640" y="5283360"/>
            <a:ext cx="8256600" cy="1739880"/>
          </a:xfrm>
          <a:prstGeom prst="rect">
            <a:avLst/>
          </a:prstGeom>
          <a:ln w="0">
            <a:noFill/>
          </a:ln>
        </p:spPr>
      </p:pic>
      <p:grpSp>
        <p:nvGrpSpPr>
          <p:cNvPr id="1759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760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76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Theoretical guarantee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003320" y="2743200"/>
            <a:ext cx="10883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Theorem: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oset SMC is consistent, i.e. for all bounded test func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7" name=""/>
          <p:cNvSpPr/>
          <p:nvPr/>
        </p:nvSpPr>
        <p:spPr>
          <a:xfrm>
            <a:off x="10078920" y="5753160"/>
            <a:ext cx="108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a.s.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8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769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77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04560" y="1080"/>
            <a:ext cx="12395160" cy="22100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Application to phylogenetic inference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82560" y="2654280"/>
            <a:ext cx="11988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Goal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arison against MCM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mpetitor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andard MCMC sampler, 4 tempering chains, shared sum-product implementa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Metric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ymmetric clade difference of the Minimum Bayes Risk reconstructed tree to the generating tre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 Narrow"/>
                <a:ea typeface="Arial Narrow"/>
              </a:rPr>
              <a:t>Datapoints computed by increasing the number of particles (for SMC) and the number of sampling steps (for MCMC)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777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78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8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Experiments: setup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graphicFrame>
        <p:nvGraphicFramePr>
          <p:cNvPr id="1783" name=""/>
          <p:cNvGraphicFramePr/>
          <p:nvPr/>
        </p:nvGraphicFramePr>
        <p:xfrm>
          <a:off x="711360" y="2668680"/>
          <a:ext cx="11582280" cy="5638680"/>
        </p:xfrm>
        <a:graphic>
          <a:graphicData uri="http://schemas.openxmlformats.org/drawingml/2006/table">
            <a:tbl>
              <a:tblPr/>
              <a:tblGrid>
                <a:gridCol w="3116160"/>
                <a:gridCol w="2928960"/>
                <a:gridCol w="2827440"/>
                <a:gridCol w="2709720"/>
              </a:tblGrid>
              <a:tr h="939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 Bold"/>
                          <a:ea typeface="Arial Narrow Bold"/>
                        </a:rPr>
                        <a:t>Synthetic-small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 Bold"/>
                          <a:ea typeface="Arial Narrow Bold"/>
                        </a:rPr>
                        <a:t>Synthetic-med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 Bold"/>
                          <a:ea typeface="Arial Narrow Bold"/>
                        </a:rPr>
                        <a:t>Real dat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 Bold"/>
                          <a:ea typeface="Arial Narrow Bold"/>
                        </a:rPr>
                        <a:t>Sourc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"/>
                          <a:ea typeface="ヒラギノ角ゴ ProN W3"/>
                        </a:rPr>
                        <a:t>Generated from the model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000000"/>
                          </a:solidFill>
                          <a:latin typeface="Arial Narrow"/>
                          <a:ea typeface="ヒラギノ角ゴ ProN W3"/>
                        </a:rPr>
                        <a:t>Subset of HGDP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 Bold"/>
                          <a:ea typeface="Arial Narrow Bold"/>
                        </a:rPr>
                        <a:t>Likelihood model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"/>
                          <a:ea typeface="ヒラギノ角ゴ ProN W3"/>
                        </a:rPr>
                        <a:t>Brownian motion on frequencie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 Bold"/>
                          <a:ea typeface="Arial Narrow Bold"/>
                        </a:rPr>
                        <a:t>Number of site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"/>
                          <a:ea typeface="ヒラギノ角ゴ ProN W3"/>
                        </a:rPr>
                        <a:t>10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"/>
                          <a:ea typeface="ヒラギノ角ゴ ProN W3"/>
                        </a:rPr>
                        <a:t>11 51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 Bold"/>
                          <a:ea typeface="Arial Narrow Bold"/>
                        </a:rPr>
                        <a:t>Number of node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"/>
                          <a:ea typeface="ヒラギノ角ゴ ProN W3"/>
                        </a:rPr>
                        <a:t>2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"/>
                          <a:ea typeface="ヒラギノ角ゴ ProN W3"/>
                        </a:rPr>
                        <a:t>5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"/>
                          <a:ea typeface="ヒラギノ角ゴ ProN W3"/>
                        </a:rPr>
                        <a:t>2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 Bold"/>
                          <a:ea typeface="Arial Narrow Bold"/>
                        </a:rPr>
                        <a:t>Number of leave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"/>
                          <a:ea typeface="ヒラギノ角ゴ ProN W3"/>
                        </a:rPr>
                        <a:t>1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"/>
                          <a:ea typeface="ヒラギノ角ゴ ProN W3"/>
                        </a:rPr>
                        <a:t>2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 Narrow"/>
                          <a:ea typeface="ヒラギノ角ゴ ProN W3"/>
                        </a:rPr>
                        <a:t>1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440">
                      <a:solidFill>
                        <a:srgbClr val="d1d1d1"/>
                      </a:solidFill>
                    </a:lnL>
                    <a:lnR w="1440">
                      <a:solidFill>
                        <a:srgbClr val="d1d1d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4" name=""/>
          <p:cNvSpPr/>
          <p:nvPr/>
        </p:nvSpPr>
        <p:spPr>
          <a:xfrm>
            <a:off x="-484200" y="8750160"/>
            <a:ext cx="9472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e Sys bio paper for more experimen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5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786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789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9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Comparison with MCMC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654720" y="8902800"/>
            <a:ext cx="5803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all clock time (ms) </a:t>
            </a:r>
            <a:r>
              <a:rPr b="0" lang="en-US" sz="36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in logsca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-1107000" y="5536440"/>
            <a:ext cx="6120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ymmetric clade differenc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4" name=""/>
          <p:cNvSpPr/>
          <p:nvPr/>
        </p:nvSpPr>
        <p:spPr>
          <a:xfrm>
            <a:off x="4615560" y="2133720"/>
            <a:ext cx="3881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ynthetic-smal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95" name="" descr=""/>
          <p:cNvPicPr/>
          <p:nvPr/>
        </p:nvPicPr>
        <p:blipFill>
          <a:blip r:embed="rId1"/>
          <a:stretch/>
        </p:blipFill>
        <p:spPr>
          <a:xfrm>
            <a:off x="2324160" y="2933640"/>
            <a:ext cx="781056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797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800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Comparison with MCMC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654720" y="8902800"/>
            <a:ext cx="5803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all clock time (ms) </a:t>
            </a:r>
            <a:r>
              <a:rPr b="0" lang="en-US" sz="36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in logsca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-1107000" y="5536440"/>
            <a:ext cx="6120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ymmetric clade differenc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5" name=""/>
          <p:cNvSpPr/>
          <p:nvPr/>
        </p:nvSpPr>
        <p:spPr>
          <a:xfrm>
            <a:off x="4233600" y="2133720"/>
            <a:ext cx="4645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ynthetic-medi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1"/>
          <a:stretch/>
        </p:blipFill>
        <p:spPr>
          <a:xfrm>
            <a:off x="2438280" y="2970360"/>
            <a:ext cx="766152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7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808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811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1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Experiments on real data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631800" y="2247840"/>
            <a:ext cx="11988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Goal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how that the method scales to large number of si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15" name="" descr=""/>
          <p:cNvPicPr/>
          <p:nvPr/>
        </p:nvPicPr>
        <p:blipFill>
          <a:blip r:embed="rId1"/>
          <a:stretch/>
        </p:blipFill>
        <p:spPr>
          <a:xfrm>
            <a:off x="3657600" y="5041800"/>
            <a:ext cx="4863960" cy="3784680"/>
          </a:xfrm>
          <a:prstGeom prst="rect">
            <a:avLst/>
          </a:prstGeom>
          <a:ln w="0">
            <a:noFill/>
          </a:ln>
        </p:spPr>
      </p:pic>
      <p:sp>
        <p:nvSpPr>
          <p:cNvPr id="1816" name=""/>
          <p:cNvSpPr/>
          <p:nvPr/>
        </p:nvSpPr>
        <p:spPr>
          <a:xfrm rot="16200000">
            <a:off x="1504800" y="6506640"/>
            <a:ext cx="3435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all clock time (ms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7" name=""/>
          <p:cNvSpPr/>
          <p:nvPr/>
        </p:nvSpPr>
        <p:spPr>
          <a:xfrm>
            <a:off x="4562640" y="8864640"/>
            <a:ext cx="3848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Number of cor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8" name=""/>
          <p:cNvSpPr/>
          <p:nvPr/>
        </p:nvSpPr>
        <p:spPr>
          <a:xfrm>
            <a:off x="639720" y="3073320"/>
            <a:ext cx="119887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umber of particle (10,000) determined using synthetic experiments, timing experiments with different numbers of cores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9" name=""/>
          <p:cNvGrpSpPr/>
          <p:nvPr/>
        </p:nvGrpSpPr>
        <p:grpSpPr>
          <a:xfrm>
            <a:off x="6259680" y="1798560"/>
            <a:ext cx="5167080" cy="76320"/>
            <a:chOff x="6259680" y="1798560"/>
            <a:chExt cx="5167080" cy="76320"/>
          </a:xfrm>
        </p:grpSpPr>
        <p:sp>
          <p:nvSpPr>
            <p:cNvPr id="1820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2596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82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2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Conclusion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219320" y="2552760"/>
            <a:ext cx="117853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2e38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38a8"/>
                </a:solidFill>
                <a:latin typeface="Arial"/>
                <a:ea typeface="Arial"/>
              </a:rPr>
              <a:t>Variational inference by Measure Factorization </a:t>
            </a:r>
            <a:br>
              <a:rPr sz="3600"/>
            </a:br>
            <a:r>
              <a:rPr b="0" lang="en-US" sz="3600" spc="-1" strike="noStrike">
                <a:solidFill>
                  <a:srgbClr val="2e38a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: Approximations are not incremental (yet), MSA system is still too slow for broad usabi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s: Good accuracy, boun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2e38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38a8"/>
                </a:solidFill>
                <a:latin typeface="Arial"/>
                <a:ea typeface="Arial"/>
              </a:rPr>
              <a:t>Poset Sequential Monte Carlo</a:t>
            </a:r>
            <a:br>
              <a:rPr sz="3600"/>
            </a:br>
            <a:r>
              <a:rPr b="0" lang="en-US" sz="3600" spc="-1" strike="noStrike">
                <a:solidFill>
                  <a:srgbClr val="2e38a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: Memory intensive--MCMC eventually overperfor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s: Quickly gets to a good guess, easy to parallelize, makes a great combo with MCM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7" name=""/>
          <p:cNvSpPr/>
          <p:nvPr/>
        </p:nvSpPr>
        <p:spPr>
          <a:xfrm>
            <a:off x="7883640" y="4838760"/>
            <a:ext cx="5244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[Bouchard et al. NIPS 2010]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8" name=""/>
          <p:cNvSpPr/>
          <p:nvPr/>
        </p:nvSpPr>
        <p:spPr>
          <a:xfrm>
            <a:off x="7883640" y="8470800"/>
            <a:ext cx="5244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[Bouchard et al. Sys bio 2012]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9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1830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183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Acknowledgments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74720" y="2540160"/>
            <a:ext cx="114426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2e38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38a8"/>
                </a:solidFill>
                <a:latin typeface="Arial"/>
                <a:ea typeface="Arial"/>
              </a:rPr>
              <a:t>My collaborators: Liangliang Wang,  Arnaud Doucet, Michael I. Jordan, Sriram Sankararama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38a8"/>
                </a:solidFill>
                <a:latin typeface="Arial"/>
                <a:ea typeface="Arial"/>
              </a:rPr>
              <a:t>Funding by NSERC, FQRNT, and the Siebel Found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2e38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17520" y="3746520"/>
            <a:ext cx="12331800" cy="5473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742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745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96800" y="0"/>
            <a:ext cx="10210680" cy="221472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Decoding the title of this talk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-375480" y="2260440"/>
            <a:ext cx="13762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Variational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d</a:t>
            </a: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 Sequential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Inference over Combinatorial Spa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"/>
          <p:cNvSpPr/>
          <p:nvPr/>
        </p:nvSpPr>
        <p:spPr>
          <a:xfrm>
            <a:off x="593640" y="3809880"/>
            <a:ext cx="1177308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Previous work: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r inference in combinatorial spaces, mostly MCMC (Markov Chain Monte Carlo)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Variational methods: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st probabilistic inference problems as a constrained, convex optimization problem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equential methods: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incrementally approximate complicated distributions by importance sampling and resampling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Both approaches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have been very successful for inference in graphical models, but not in combinatorial space..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751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754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52280" y="-250920"/>
            <a:ext cx="12700080" cy="22082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e38a8"/>
                </a:solidFill>
                <a:latin typeface="Arial"/>
              </a:rPr>
              <a:t>Outline: two frameworks for probabilistic inference over combinatorial spaces</a:t>
            </a:r>
            <a:endParaRPr b="0" lang="en-US" sz="49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27760" y="2552760"/>
            <a:ext cx="10698840" cy="61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2e38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38a8"/>
                </a:solidFill>
                <a:latin typeface="Arial Bold"/>
                <a:ea typeface="Arial Bold"/>
              </a:rPr>
              <a:t>Variational inference by Measure Factorization </a:t>
            </a:r>
            <a:br>
              <a:rPr sz="3600"/>
            </a:br>
            <a:r>
              <a:rPr b="0" lang="en-US" sz="3600" spc="-1" strike="noStrike">
                <a:solidFill>
                  <a:srgbClr val="2e38a8"/>
                </a:solidFill>
                <a:latin typeface="Arial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’s guid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etical found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s on multiple sequence align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2e38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38a8"/>
                </a:solidFill>
                <a:latin typeface="Arial"/>
                <a:ea typeface="Arial"/>
              </a:rPr>
              <a:t>Poset Sequential Monte Carlo</a:t>
            </a:r>
            <a:br>
              <a:rPr sz="3600"/>
            </a:br>
            <a:r>
              <a:rPr b="0" lang="en-US" sz="3600" spc="-1" strike="noStrike">
                <a:solidFill>
                  <a:srgbClr val="2e38a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’s guid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etical found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iments on phylogenetic tree infer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6729480" y="1798560"/>
            <a:ext cx="5167080" cy="76320"/>
            <a:chOff x="6729480" y="1798560"/>
            <a:chExt cx="5167080" cy="76320"/>
          </a:xfrm>
        </p:grpSpPr>
        <p:sp>
          <p:nvSpPr>
            <p:cNvPr id="759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29480" y="1798560"/>
              <a:ext cx="516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1572120" y="1798560"/>
            <a:ext cx="5168520" cy="76320"/>
            <a:chOff x="1572120" y="1798560"/>
            <a:chExt cx="5168520" cy="76320"/>
          </a:xfrm>
        </p:grpSpPr>
        <p:sp>
          <p:nvSpPr>
            <p:cNvPr id="762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e38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0800000">
              <a:off x="1572120" y="1798200"/>
              <a:ext cx="516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06080" y="-200160"/>
            <a:ext cx="12192120" cy="220824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e38a8"/>
                </a:solidFill>
                <a:latin typeface="Arial"/>
              </a:rPr>
              <a:t>Variational inference over combinatorial spaces: a user’s guide</a:t>
            </a:r>
            <a:endParaRPr b="0" lang="en-US" sz="5400" spc="-1" strike="noStrike">
              <a:solidFill>
                <a:srgbClr val="2e38a8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743880" y="5823000"/>
            <a:ext cx="5816520" cy="3365280"/>
          </a:xfrm>
          <a:prstGeom prst="rect">
            <a:avLst/>
          </a:prstGeom>
          <a:solidFill>
            <a:srgbClr val="f9f9f9"/>
          </a:solidFill>
          <a:ln w="12600">
            <a:solidFill>
              <a:srgbClr val="2e3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"/>
          <p:cNvSpPr/>
          <p:nvPr/>
        </p:nvSpPr>
        <p:spPr>
          <a:xfrm>
            <a:off x="431640" y="5823000"/>
            <a:ext cx="5816880" cy="3365280"/>
          </a:xfrm>
          <a:prstGeom prst="rect">
            <a:avLst/>
          </a:prstGeom>
          <a:solidFill>
            <a:srgbClr val="f9f9f9"/>
          </a:solidFill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"/>
          <p:cNvSpPr/>
          <p:nvPr/>
        </p:nvSpPr>
        <p:spPr>
          <a:xfrm>
            <a:off x="584280" y="2241720"/>
            <a:ext cx="11810880" cy="3136680"/>
          </a:xfrm>
          <a:prstGeom prst="rect">
            <a:avLst/>
          </a:prstGeom>
          <a:solidFill>
            <a:srgbClr val="f9f9f9"/>
          </a:solidFill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8" name=""/>
          <p:cNvSpPr/>
          <p:nvPr/>
        </p:nvSpPr>
        <p:spPr>
          <a:xfrm>
            <a:off x="1775880" y="5820120"/>
            <a:ext cx="314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Large treewidth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"/>
          <p:cNvSpPr/>
          <p:nvPr/>
        </p:nvSpPr>
        <p:spPr>
          <a:xfrm>
            <a:off x="7644960" y="5858280"/>
            <a:ext cx="441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binatorial space </a:t>
            </a:r>
            <a:r>
              <a:rPr b="0" lang="en-US" sz="4200" spc="-1" strike="noStrike">
                <a:solidFill>
                  <a:srgbClr val="b72428"/>
                </a:solidFill>
                <a:latin typeface="Times New Roman Italic"/>
                <a:ea typeface="Times New Roman Italic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5715000" y="5143680"/>
            <a:ext cx="277920" cy="660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10337400" y="4177800"/>
            <a:ext cx="304920" cy="1651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685800" y="6711840"/>
            <a:ext cx="2019240" cy="20005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2959200" y="6807240"/>
            <a:ext cx="2933640" cy="18162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9931320" y="6553080"/>
            <a:ext cx="2389320" cy="257832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4"/>
          <a:stretch/>
        </p:blipFill>
        <p:spPr>
          <a:xfrm>
            <a:off x="2413080" y="3478320"/>
            <a:ext cx="8178840" cy="16524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5"/>
          <a:stretch/>
        </p:blipFill>
        <p:spPr>
          <a:xfrm>
            <a:off x="7112160" y="6591240"/>
            <a:ext cx="2708280" cy="247644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801720" y="2266920"/>
            <a:ext cx="1140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Setup: </a:t>
            </a:r>
            <a:r>
              <a:rPr b="0" lang="en-US" sz="4200" spc="-1" strike="noStrike">
                <a:solidFill>
                  <a:srgbClr val="000000"/>
                </a:solidFill>
                <a:latin typeface="Arial Narrow"/>
                <a:ea typeface="Arial Narrow"/>
              </a:rPr>
              <a:t>hard inference problem over an exponential famil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